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9D83BDD-5A0F-417A-8594-59C7F20E8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BC84E91-E027-4274-B869-25CDE2A60A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DD345A2-1B32-4135-9D7C-72E9664583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3E7EC4E-85D2-453F-B469-DBFC56F03F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B8C769E-780C-41A6-8AC6-B58FF00063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FE23F5D-0C03-43B1-A34B-64A74BB3DE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0002D31-C6FD-4BC8-8180-5BBE77294F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D60EE5E-CBC0-4FC1-97B9-298C247CC2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E8EAD16-82F1-4372-A916-77E5B21FE3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A7BDF7B-ADE2-4FC5-9C7E-95489D269A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EF39CED-47E3-4946-A0CB-C673CBB9CC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EF28591-A955-4C4C-BEA1-7E76865112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C22CA50-8A96-484B-8B61-84793DA086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0988687-C6CE-4BE3-8FBC-081F0DC410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06AA67A-00F1-4D32-BC4E-18AE2159CB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AE92238-02C2-43E0-89BE-BB4A89C62A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248ED3D-C4E1-4EB3-9FA3-2AF1CF1B03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4F2AED9-587D-406A-AF16-20BA654970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CED4-E356-4856-98B7-465E4687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B19F-5A41-430B-8EE0-A35F4AF8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CC7F-432E-4DA8-8E38-6BAEF725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5322-6EB2-43CE-B37D-FDAD7BD2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94E-9490-42D4-A997-705E8FB1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7247-E5B3-4352-AFC6-6303E725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6DC3-4451-467E-89AF-9514DF51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FA44-5F06-47D8-B4EC-F65B464B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5531-0770-4EEC-8278-7F772070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C95A-B01A-4E36-B682-94936321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67F1-63B3-4406-8F23-833C1707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F76C-826D-40FA-8ABE-4B114E23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CB30-6A5F-42AF-9D0A-32BBCC3AABD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7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Enterprise networks, VP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ltiprotocol Label Switching (MPL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bel edge routers (LERs) assign a label that defines the path the packet will take through the IP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happens only once, at ed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at interior routers (label switched routers, or LSRs) is done in hardware, not a software lookup of IP routing tab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ch faster, cheap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ck of labels allows complex, hierarchical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el distribution protocol (LDP) used to distribute labels to all LSRs and LERs, using TCP/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S allows QoS, security (strict traffic rul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PLS VPNs operate at layer 2 or layer 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routers don’t need to support MPLS; they connect to LER via I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S is a fiber-only technology, national but not global scope (yet), complex network, “Ethernet-like” op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ltiprotocol Label Switch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0" name="Picture 3" descr="Lec22d"/>
          <p:cNvPicPr/>
          <p:nvPr/>
        </p:nvPicPr>
        <p:blipFill>
          <a:blip r:embed="rId1"/>
          <a:stretch/>
        </p:blipFill>
        <p:spPr>
          <a:xfrm>
            <a:off x="762120" y="1146240"/>
            <a:ext cx="7340400" cy="555948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847800" y="6324480"/>
            <a:ext cx="219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neutrality debate…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LA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PLS is sometimes described as implementing a virtual LAN, or VLAN: set up LANs in softw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6300720" cy="46404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7519680" y="662616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: Forouza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chnology chang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 slide compares X.25 and frame rel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.25 was developed for copper or radio long-haul networks with high error r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k-by-link error correction as a message travels across the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s ‘dumb’ equipment at the edges, so the X.25 protocol takes full responsibility for delivering messages correc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ame relay (or any other protocol carried on fiber optics such as TCP/I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es on low fiber optic error rate. No link-by-link error correction, just a retransmission triggered by end node if message not correctly receiv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wireless long haul net would need roughly the same protocols as X.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art edge devices make it easier than X.2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 relay vs X.2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" name="Picture 3" descr="Fig_6"/>
          <p:cNvPicPr/>
          <p:nvPr/>
        </p:nvPicPr>
        <p:blipFill>
          <a:blip r:embed="rId1"/>
          <a:stretch/>
        </p:blipFill>
        <p:spPr>
          <a:xfrm>
            <a:off x="2362320" y="914400"/>
            <a:ext cx="457020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 relay/Internet vs. X.2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ce between reliable and unreliable netwo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has error rate of 1 bit in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 can correct end-to-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less has error rate of 1 bit in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 must correct link-by-lin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ce between smart and dumb termin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erly, terminals had no CPU and just displayed what the communications line sent to th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ld not detect or correct erro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Cs, servers, smart phones as terminals can correct and detect err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llowing out of the network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work (switches, etc.) used to have all the intellig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w network is just a set of ‘bit pipes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ge devices have the intellig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convergen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vergence: Moving all voice, data and video traffic onto Inter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umer service reason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mart cards and mobile phones: browsers, phone as payment medium, smart posters, camer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-commerce general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 of the personal computer (PC) as we know it, for most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 reduction: one network versus ma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nets morph into carrier nets with Internet protoco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ed mobility ser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ing wireless access to fiber optic backbone flexi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rrier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w quality, chaos of open Internet to reach 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y to reach 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adband in the ‘last mile’ to reach businesses and hom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: Virtual private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Psec: Secure IP (layer 3 security used in VP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2TP: Layer 2 tunneling protocol (VP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STN: Public switched telephone network, or carrier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PLS: Multiprotocol Label Switching, a WAN technology to connect LANs transpar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R: MPLS Label Edge Rout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SR: MPLS Label Switched Router (interior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DP: MPLS Label Distribution Protoc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oS: Quality of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eps and skills for building these systems are same as we’ve covered in class this semest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and project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eople, process, product, technology dimens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lect development method (often spiral mode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quirements, design, resource estimation, implementation, Q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cess model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ML: describe use cases, states, activities, classes, compon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d in requirements, scoping, design early; architecture l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a model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del business rules, verify with users (internal, customers, 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rmalization, referential integr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abas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lational databases, SQL at core of applications, We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atabases read/write 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eps, continu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orld Wide Web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nect clients and servers: HTTP, XML, Web serv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 HTTP, XML as universal data acc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 allows human, machine and document interpret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 documents include business rules, database 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tocols codify rules, principals, risks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LS and Kerbero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LS encryption, certificates, digital signat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ople, process, product, technology dimensions agai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twor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 tier : Web, application, datab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 layer data comm model: HTTP (7), TCP/IP (4/3), Ethernet (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s, MANs, WANs: LANs, MANs are Ethernet, WANs va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ber optic core, wireless/copper/CATV for acc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private/carrier network, not open Internet in many ca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terprise networ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s within enterpr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rnal conne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off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ploye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partners, supply chain partn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ients…and other actors with special require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les of enterprise network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s bas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iable: disruptions affect all external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ty of service: latency, throughput, services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urse summary: proc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f you spent 12 hours per week for 14 weeks, that's 168 hours, or 4 40 hour wee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ady for second spiral after 8 person weeks of work (4 person weeks times 2 peop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s can be done in the wasted “up-front” time to prepare for an anticipated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 will usually take this long because you'll usually be learning a new domain and/or new technolog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y using the spiral model and being able to do requirements, UML, data models, SQL, Web sites, initial security approach and initial telecom approach, you ca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ork  effectively with  IT staf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nage engineering or logistics projects with IT compon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By knowing technical areas covered in class, you can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ecify, design and build databases, Web sites, etc. as a consulta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ilding blocks of enterprise network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l area networ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de- or metro-area networks: include 1 or more of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lines (point to point circui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Ethernet” MAN over carrier fiber in metro are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rtual private net (VPN) over Intern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or carrier-provided networks separate from Intern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ame relay (pre-Internet, still used but being superseded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bel switched (MPLS), over carrier IP networ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overed later in this lectu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ice network: includes one or more of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grated with data net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lines shared between data and voi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 carried over IP or MPLS network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ually carried as service over data net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private networks (VPN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Picture 4" descr="Lec22a"/>
          <p:cNvPicPr/>
          <p:nvPr/>
        </p:nvPicPr>
        <p:blipFill>
          <a:blip r:embed="rId1"/>
          <a:stretch/>
        </p:blipFill>
        <p:spPr>
          <a:xfrm>
            <a:off x="1752480" y="1371600"/>
            <a:ext cx="55753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private networks (VPN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tion: VPN is set of sites tha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cate over the open Internet bu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the security and management capabilities of dedicated circuit or frame relay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applications without modifi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simple management for admins and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with low overhead and good communications perform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ypically handle data only but can handle voice, 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 basic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hentication (identity), authorization (privileg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ment of secure tunnel (path) in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echnolog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unne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ncapsulates data of one protocol inside the data field of another protoc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PN encrypts corporate data inside IP packet data field (which is managed by TCP, which is called by HTT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 and TCP data is inside the IP packet and is encrypt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orporate data is encrypted via the VPN’s security protocol (symmetric, asymmetric keys, message diges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SL is frequently used; Kerberos-like options also avail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s operate at layer 2 (Ethernet) or layer 3 (I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3: Routers use IP information to rou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common: Easier to manage, but lower perform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2: uses Ethernet addresses; corporation responsible for routing packets across WAN and LA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rder to manage, but better perform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s operate over DSL, cable,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e network topology (all links to/thru central poin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redundancy, resilienc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unn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 carries packet between routers R1 and R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cket is encrypted, and intruder only sees R1 and R2 IP addres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IP addresses (100 and 200) cannot be seen, nor the packet cont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6438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erminolog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a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tion of VPN connecting internal s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tion of VPN connecting external s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e Sockets Layer (SS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sec (secure IP standard) at layer 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encrypt entire packet (tunnel mode) or just the data field (transport mod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devices must share a common (public) key, in digital certific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ices negotiate secure tunnel using Internet Key Exchange (IKE) protoc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2 tunneling protocol (L2T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ires pre-arranged paths between devices or to/from secure ser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terprise routing: IP and other protocol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6" name="Picture 3" descr="Lec22c"/>
          <p:cNvPicPr/>
          <p:nvPr/>
        </p:nvPicPr>
        <p:blipFill>
          <a:blip r:embed="rId1"/>
          <a:stretch/>
        </p:blipFill>
        <p:spPr>
          <a:xfrm>
            <a:off x="763560" y="1219320"/>
            <a:ext cx="754236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21T00:54:03Z</cp:lastPrinted>
  <dcterms:modified xsi:type="dcterms:W3CDTF">2013-12-04T13:25:32Z</dcterms:modified>
  <cp:revision>231</cp:revision>
  <dc:subject/>
  <dc:title>1.264 Lecture 5</dc:title>
</cp:coreProperties>
</file>