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661F-2DBF-477A-BCFF-68A5EA34B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18E5-7410-4C55-9487-60C5441241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F594-2D5B-4764-8B6B-291075D228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83BD-C05A-4600-A87B-E1944433BA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3E6D-C282-46A4-8894-B9B869292C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FE5D-D8FD-410A-BBF1-7184E762AC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D4E2-1BA6-48F9-A630-95CFE20E70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FB6E-9232-4C41-8240-D4B7937FF8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12EF-1EC7-4942-A084-9DE09331DD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39EB-9CC5-4372-BCF3-CBFFD4BA40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5329-FDE1-4B6A-BD54-F803DBBEF6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C439-BDD9-4F58-8AC5-AD8588F575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D3B2-D5D2-4651-B237-667C34582B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604F-D4D6-4E02-9F10-48545658FA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E370-EC85-47BC-93CF-8E7AA976BD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0DB0-E901-4FA1-96B8-A72AB62A0E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45BA-BDCE-4EE5-A0ED-191A22365D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78BC-2AEF-4489-B546-CDF61CC492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5BA7-B758-481B-91FD-D1610FF754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A78D-6F73-4F07-A80D-CFDC9D68C4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F1AD-7A0A-4459-8E0F-88387C0F07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778D-4823-4919-836E-935CBBB949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2A3B-B922-404D-8A35-5EC43430E7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3485-A2AF-43BE-8A20-56C391AD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AF1B-7030-426A-B178-91C5E605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4F6-C902-461D-9EEC-F8BE88C9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1664-78B5-4999-AA8A-CC4E0397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782-CB85-4B26-A5E0-2A576E4D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606-399E-4687-B9D8-E350C6A7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41A6-81E0-450B-B1B4-9E4704BB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439D-B9AF-477E-853D-7CF546E3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923-DCFB-4D8E-9699-5E594CC2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607-DA03-4921-8B25-AD480F41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5FBE-C160-4562-8B26-C9801A92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53B-D243-4FDA-827F-DAE1355D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3BE5-7C45-42BB-994F-11B02C55A7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Oriented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ctronic Data Interchange (ED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93120" y="5719680"/>
            <a:ext cx="538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1, 2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Picture5.jpg"/>
          <p:cNvPicPr/>
          <p:nvPr/>
        </p:nvPicPr>
        <p:blipFill>
          <a:blip r:embed="rId1"/>
          <a:stretch/>
        </p:blipFill>
        <p:spPr>
          <a:xfrm>
            <a:off x="838080" y="1351080"/>
            <a:ext cx="7175520" cy="5430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s and existing syst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081800" y="914400"/>
            <a:ext cx="67766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ed system built using Web services/SOA to existing system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31240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49528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40384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79132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an SOA diagram for your homework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ide how you would structure your catalog browsing and order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your Web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the Web services your customers would use to communicate with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igure 5.4 and/or Figure 5.15 on the previous slides as a temp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2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generation Web services: SOAP, WSDL, UDDI (WSDL regist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 functional requirements for businesses, but not the supporting requirements: security, reliability, availability, quality of service, choreograp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2.0: WS-* specif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Addressing: references to Web service end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Atomic Trans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Business Process Execution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Choreography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Coordination and WS-Eve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Metadata Exchange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No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Reliable Mess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Security: end to end, not just point to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siness Process Execution Langu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 rot="21540000">
            <a:off x="1828800" y="1066320"/>
            <a:ext cx="5819760" cy="5464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4278600" y="6581880"/>
            <a:ext cx="462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m Kumar, Narayan, Ng: Implementing SOA Using Java E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I (Electronic Data Interchange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 is a mainframe-based standard for electronic exchange of information. Developed in 1980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is expensive, complex and has limited usage, but enough that new technologies must interoperate with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, large companies use EDI and require it of their smaller partners/vendors, who are not always eager to u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wo EDI standards: ANSI X12 and EDIFACT (U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documents follow EDI standards in many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documents are called Transaction Sets (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to XML mapping established using DT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users of Internet ecommerce may skip EDI and use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ss than 80,000 of 6-10 million US businesses us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5,000 businesses world-wide us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cost and complexity are large obstacle for medium size busin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 commun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nary, not text (difficult to change or troubleshoo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transaction sets are stat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designed for expensive and scarce 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ch optimization of message size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nded to replace letters, phone calls, fax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self-describing, cannot be validated, can’t be extended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through third party value-added networks (V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nies generally use file transfer to send file to V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N handles EDI exchange with trading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ared to once-a-day, batch exchanges of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(over a period of days): A purchas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40 document (Request for Quo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43 (Quo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50 (Purchase Or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56 (Shipment Not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10 (Invo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20 (Paym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DI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" name="Picture 3" descr="Picture6.jpg"/>
          <p:cNvPicPr/>
          <p:nvPr/>
        </p:nvPicPr>
        <p:blipFill>
          <a:blip r:embed="rId1"/>
          <a:stretch/>
        </p:blipFill>
        <p:spPr>
          <a:xfrm>
            <a:off x="1219320" y="2438280"/>
            <a:ext cx="6210360" cy="22924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5308920" y="502920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/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D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7" name="Picture 4" descr="EDI_ISAExample"/>
          <p:cNvPicPr/>
          <p:nvPr/>
        </p:nvPicPr>
        <p:blipFill>
          <a:blip r:embed="rId1"/>
          <a:stretch/>
        </p:blipFill>
        <p:spPr>
          <a:xfrm>
            <a:off x="2514600" y="152280"/>
            <a:ext cx="4059360" cy="6589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7012080" y="60199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 Exam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tail information flow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0" name="Picture 3" descr="Picture7.jpg"/>
          <p:cNvPicPr/>
          <p:nvPr/>
        </p:nvPicPr>
        <p:blipFill>
          <a:blip r:embed="rId1"/>
          <a:stretch/>
        </p:blipFill>
        <p:spPr>
          <a:xfrm>
            <a:off x="457200" y="712800"/>
            <a:ext cx="84614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ributor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2" name="Picture 3" descr="Picture8.jpg"/>
          <p:cNvPicPr/>
          <p:nvPr/>
        </p:nvPicPr>
        <p:blipFill>
          <a:blip r:embed="rId1"/>
          <a:stretch/>
        </p:blipFill>
        <p:spPr>
          <a:xfrm>
            <a:off x="92160" y="692280"/>
            <a:ext cx="895968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286000" y="1108080"/>
            <a:ext cx="914400" cy="105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029200" y="1173240"/>
            <a:ext cx="91440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001000" y="1173240"/>
            <a:ext cx="914400" cy="101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3276720" y="185904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6019920" y="1703520"/>
            <a:ext cx="1981080" cy="46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5943600" y="205416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H="1">
            <a:off x="3200400" y="21636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3276720" y="124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3200400" y="15541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154080" y="1173240"/>
            <a:ext cx="87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-to-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-to-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350520" y="955800"/>
            <a:ext cx="159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vc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50520" y="130176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vc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358080" y="1630440"/>
            <a:ext cx="17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ML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359520" y="1935000"/>
            <a:ext cx="196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ML,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5920200" y="1496880"/>
            <a:ext cx="191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 conn, SQL quer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5934960" y="180828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 conn, SQL resultse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4"/>
          <p:cNvSpPr/>
          <p:nvPr/>
        </p:nvSpPr>
        <p:spPr>
          <a:xfrm>
            <a:off x="1066680" y="11430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6"/>
          <p:cNvSpPr/>
          <p:nvPr/>
        </p:nvSpPr>
        <p:spPr>
          <a:xfrm>
            <a:off x="1981080" y="14018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7"/>
          <p:cNvSpPr/>
          <p:nvPr/>
        </p:nvSpPr>
        <p:spPr>
          <a:xfrm>
            <a:off x="1981080" y="1554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2286000" y="2316240"/>
            <a:ext cx="9144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ent/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41"/>
          <p:cNvSpPr/>
          <p:nvPr/>
        </p:nvSpPr>
        <p:spPr>
          <a:xfrm>
            <a:off x="2987280" y="15228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lution- case stu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" name="Straight Arrow Connector 37"/>
          <p:cNvCxnSpPr>
            <a:stCxn id="70" idx="3"/>
          </p:cNvCxnSpPr>
          <p:nvPr/>
        </p:nvCxnSpPr>
        <p:spPr>
          <a:xfrm flipV="1">
            <a:off x="3200400" y="1828080"/>
            <a:ext cx="182952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3" name="Straight Arrow Connector 39"/>
          <p:cNvCxnSpPr/>
          <p:nvPr/>
        </p:nvCxnSpPr>
        <p:spPr>
          <a:xfrm flipH="1">
            <a:off x="3200040" y="2132640"/>
            <a:ext cx="182952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4" name="Text Box 19"/>
          <p:cNvSpPr/>
          <p:nvPr/>
        </p:nvSpPr>
        <p:spPr>
          <a:xfrm>
            <a:off x="3285360" y="2511360"/>
            <a:ext cx="21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HTML,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3307320" y="228276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34286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LT used by customer or manufacturer/distributor to alter XML being sent or recei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D and/or DTD used by customer or manufacturer/ distributor to validate XML being sent or rec’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package the HTTP, XML, XSD, request/response and URL used in “raw” XML transf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described in WSDL documents in registry.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ufacturer/distributor registers Web service in UDDI regis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stomer discovers Web service and invokes it on mfr/distrib Web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 tool: CSS for XHTML, XSLT for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5409000" y="62064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ufacturer, distribut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43"/>
          <p:cNvSpPr/>
          <p:nvPr/>
        </p:nvSpPr>
        <p:spPr>
          <a:xfrm>
            <a:off x="1357200" y="620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4"/>
          <p:cNvSpPr/>
          <p:nvPr/>
        </p:nvSpPr>
        <p:spPr>
          <a:xfrm>
            <a:off x="3352680" y="2971800"/>
            <a:ext cx="14972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y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" name="Straight Arrow Connector 39"/>
          <p:cNvCxnSpPr>
            <a:stCxn id="52" idx="2"/>
            <a:endCxn id="79" idx="3"/>
          </p:cNvCxnSpPr>
          <p:nvPr/>
        </p:nvCxnSpPr>
        <p:spPr>
          <a:xfrm flipH="1">
            <a:off x="4849560" y="2391840"/>
            <a:ext cx="637200" cy="808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1" name="Text Box 19"/>
          <p:cNvSpPr/>
          <p:nvPr/>
        </p:nvSpPr>
        <p:spPr>
          <a:xfrm>
            <a:off x="4961520" y="29685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SDL, XSD/DT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" name="Straight Arrow Connector 39"/>
          <p:cNvCxnSpPr>
            <a:stCxn id="51" idx="2"/>
          </p:cNvCxnSpPr>
          <p:nvPr/>
        </p:nvCxnSpPr>
        <p:spPr>
          <a:xfrm>
            <a:off x="2743200" y="2163600"/>
            <a:ext cx="596160" cy="103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3" name="Text Box 19"/>
          <p:cNvSpPr/>
          <p:nvPr/>
        </p:nvSpPr>
        <p:spPr>
          <a:xfrm>
            <a:off x="1837440" y="29862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SDL, XSD/DT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790560" y="2544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 if need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" name="Straight Arrow Connector 39"/>
          <p:cNvCxnSpPr>
            <a:endCxn id="84" idx="0"/>
          </p:cNvCxnSpPr>
          <p:nvPr/>
        </p:nvCxnSpPr>
        <p:spPr>
          <a:xfrm flipH="1">
            <a:off x="1523160" y="2185560"/>
            <a:ext cx="76284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6" name="Text Box 19"/>
          <p:cNvSpPr/>
          <p:nvPr/>
        </p:nvSpPr>
        <p:spPr>
          <a:xfrm>
            <a:off x="5545080" y="2544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 if need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Straight Arrow Connector 39"/>
          <p:cNvCxnSpPr>
            <a:endCxn id="86" idx="0"/>
          </p:cNvCxnSpPr>
          <p:nvPr/>
        </p:nvCxnSpPr>
        <p:spPr>
          <a:xfrm>
            <a:off x="5930640" y="2392200"/>
            <a:ext cx="34776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nancial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" name="Picture 3" descr="Picture9.jpg"/>
          <p:cNvPicPr/>
          <p:nvPr/>
        </p:nvPicPr>
        <p:blipFill>
          <a:blip r:embed="rId1"/>
          <a:stretch/>
        </p:blipFill>
        <p:spPr>
          <a:xfrm>
            <a:off x="152280" y="785880"/>
            <a:ext cx="8839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facturing/engineering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6" name="Picture 3" descr="Picture10.jpg"/>
          <p:cNvPicPr/>
          <p:nvPr/>
        </p:nvPicPr>
        <p:blipFill>
          <a:blip r:embed="rId1"/>
          <a:stretch/>
        </p:blipFill>
        <p:spPr>
          <a:xfrm>
            <a:off x="182520" y="706320"/>
            <a:ext cx="877896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facturer information flow: detai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Picture 3" descr="Picture11.jpg"/>
          <p:cNvPicPr/>
          <p:nvPr/>
        </p:nvPicPr>
        <p:blipFill>
          <a:blip r:embed="rId1"/>
          <a:stretch/>
        </p:blipFill>
        <p:spPr>
          <a:xfrm>
            <a:off x="158760" y="685800"/>
            <a:ext cx="88264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RP and EDI/XML standar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evious slides define the core of an ERP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have very substantial additions for human resources, planning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buy a full ERP or mix and match best of breed systems. Web service/SOA integration is comm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most every interface on the previous slides has a defined EDI or XML transaction set or message set, typically defined by indu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DCC (1968), EDX, CDIX, TALC, UCS/VICS, WINS, BVAI and oth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llenges of system integ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nies use multiple systems that must increasingly coop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often are in different business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in different companies (vendors, channel partners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 on different platforms (operating system, hardwa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ten in different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ifferent communication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 transfer, EDI, XML, RPC, MQ, CORBA, COM, socket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different databases, data 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different objectives, run at different times/peri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 is desired that allows integration in spite of different languages, protocols, hardwa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ice oriented architecture (SOA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are basis for integration in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ore of standard open technologies ar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, XML Schema (XSD), XSLT, SOAP, WSD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-, hardware-, software-, database-neu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egistry (database) is used to store WSDL for service dis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, reliability, performance, transactions must be added to ‘primitive’ Web services to have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supports composition (assembling) of services, reusability of services, exte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is based on a service-focused busines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ML business process models can be implemented in S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ice oriented architecture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is based on loose coupling betwee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nchronous, or message-oriented (MOM)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ument is sent from system A to system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ponse generally not guaranteed in any given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process may not complete for a long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Shipment tracking service (suc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Async telecom service orders system (fail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of current SOA implement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080160" y="6345360"/>
            <a:ext cx="23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 is Web 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641280" y="64882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Thomas 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Content Placeholder 7" descr="Picture1.jpg"/>
          <p:cNvPicPr/>
          <p:nvPr/>
        </p:nvPicPr>
        <p:blipFill>
          <a:blip r:embed="rId1"/>
          <a:stretch/>
        </p:blipFill>
        <p:spPr>
          <a:xfrm>
            <a:off x="906480" y="1981080"/>
            <a:ext cx="733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architecture (between Web server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" name="Content Placeholder 4" descr="Picture2.jpg"/>
          <p:cNvPicPr/>
          <p:nvPr/>
        </p:nvPicPr>
        <p:blipFill>
          <a:blip r:embed="rId1"/>
          <a:stretch/>
        </p:blipFill>
        <p:spPr>
          <a:xfrm>
            <a:off x="593640" y="1676520"/>
            <a:ext cx="7956720" cy="4724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use of WSD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Content Placeholder 4" descr="Picture3.jpg"/>
          <p:cNvPicPr/>
          <p:nvPr/>
        </p:nvPicPr>
        <p:blipFill>
          <a:blip r:embed="rId1"/>
          <a:stretch/>
        </p:blipFill>
        <p:spPr>
          <a:xfrm>
            <a:off x="1773360" y="1295280"/>
            <a:ext cx="5597280" cy="5486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49120" y="2743200"/>
            <a:ext cx="130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voic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miss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04280" y="3970440"/>
            <a:ext cx="114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fill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7576560" y="259092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y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7581960" y="3962520"/>
            <a:ext cx="109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rchas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service composi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Picture 5" descr="Picture4.jpg"/>
          <p:cNvPicPr/>
          <p:nvPr/>
        </p:nvPicPr>
        <p:blipFill>
          <a:blip r:embed="rId1"/>
          <a:stretch/>
        </p:blipFill>
        <p:spPr>
          <a:xfrm>
            <a:off x="1239840" y="1371600"/>
            <a:ext cx="6664320" cy="53038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59840" y="236232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y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8022600" y="2209680"/>
            <a:ext cx="88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nd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8006760" y="3970440"/>
            <a:ext cx="8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dg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11-07T15:38:59Z</cp:lastPrinted>
  <dcterms:modified xsi:type="dcterms:W3CDTF">2012-12-29T01:32:44Z</dcterms:modified>
  <cp:revision>196</cp:revision>
  <dc:subject/>
  <dc:title>1.264 Lecture 5</dc:title>
</cp:coreProperties>
</file>