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805C61F-20BF-4DE2-ADFD-193160C13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7D6F152-3E9E-4386-816A-046FC907AB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42221B1-3664-42B8-8D3C-FA9F8E2E12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694AFC1-B35F-40B4-8C8D-D35558774B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C267339-DC9D-4124-A9BA-7F5961BD71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735836C-CE6E-4A53-A21B-7BFD8781BA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4F82312-8D0A-42D6-8434-416C2AE441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22E7B93-B463-4F85-9C88-73B4426702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ABBBFE3-AEF5-4D66-B080-E063EE890C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7074246-1620-42F2-9B17-1FD5F38AE4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12BE430-B521-4EBC-B394-784C92CA98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73577C1-05D0-4AD7-882F-3747EBC681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A0F4F92-CBC8-43E5-B52F-C8C08B48B7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28D0A6D-8724-4AB5-9807-B56538576E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8976836-D6D6-4708-8268-B8D5C4574B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DA66-11C6-4FA4-AB7C-62C860B0F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7C94-7198-457E-9D77-A3BDD153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3A24-5BB6-42A9-80A0-C54444E2A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A5E2-984D-48B2-A6A0-AFD56DC7A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EB27-D9B0-4265-B4CD-C713BCBB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1BB4-2292-4538-81DB-84EFC3B8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3713-03EC-45C2-940F-7B59FBFC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A092-A4AD-4AEF-B5BA-BBEDE3CE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3954-D84F-4628-896F-FAE09EDC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75C8-10B9-4F15-A380-0214AA0C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41FA-3AD4-4373-BB1B-5ECD82AC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CACD-7D53-4A25-82A3-594E6B41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CBC7-DF91-44E7-8E9A-1BE0F298E2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lecom: Wired LAN, W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836000" y="5719680"/>
            <a:ext cx="517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Green chapter 8, 32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ocal area network (LAN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 speed, privately owned, short range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EEE 802.3 or Ethernet is nearly univers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eds of 10Mbps to 1Gbps (1000Mbp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ed range: building or campus (1-5 km typical leng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 permission for right of way on stre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rs can extend Ethernet over metro area using Carrier Ethernet, a metro-area network (M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technology is not Ethernet per se, but it looks like and is managed like Ethernet from the customer’s point of vi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cover MANs l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peater, bridge/hub, router, gateway at customer sit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855720" y="1044720"/>
            <a:ext cx="7221600" cy="57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thernet (initial wired, current wireless version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136440" y="762120"/>
            <a:ext cx="8931240" cy="53308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1017360" y="6172200"/>
            <a:ext cx="71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tocol is carrier sense multiple access/collision detection (CSMA/CD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arliest wired Ethernet used this protocol also, now supersed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4582440" y="4495680"/>
            <a:ext cx="4519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 frame= 512 b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sender sends 512 bits and has heard 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mming signal, it can continue w/o interrupti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st case is farthest station collides and sen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m signal, which must reach sender before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s more than 512 bit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- Maximum traditional LAN lengt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imum LAN length: L= ct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ed of signal: c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2 x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/sec, 2/3 speed of l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thernet speed: 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e.g.,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its/sec, or 100Mb/se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lot time t: 512/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min Ethernet frame size=512 bi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L for a 100 Mb/sec LAN 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L for a 1 Gb/sec LAN 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’ll see the 1 Gb/sec LAN isn’t feasible with traditional LAN. 1 Gb/sec LAN us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ull duplex (two wires per station, one to send, one to receiv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witches only, no repeaters or bridges, and no collis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ber optics (often), with 500 to 5000 meter seg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stance limited by signal fading, etc. (more on this late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imum LAN length: L= ct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ed of signal: c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2 x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/sec, 2/3 speed of l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thernet speed: 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e.g.,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its/sec, or 100Mb/se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lot time t: 512/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min Ethernet frame size=512 bi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L for a 100 Mb/sec LAN 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= (2x10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* 512/10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/2 = 512 meters= 0.5 k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L for a 1 Gb/sec LAN 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60960" indent="-3052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= (2x10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* 512/10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9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/2 = 51.2 meters= 0.05 k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en though collisions are avoided in full duplex, switched LANs, signal attenuation and other losses are limi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Ns typically are 5 km or l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AN: Telecom carrier network faciliti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de area networks (WA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d over same physical facilities as voice (next lect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 loop, local switch, tandem switch, tru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d on permanent circuits of much higher bandwidth than for a single voice call;  no swi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tocols based on ISO 7-layer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stly HTTP (Web services), tcp, and 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ulated by routers and data switch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sessions are highly variable compared to voice, e.g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b brow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nk ATM mach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base back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N interconn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addresses are Ethernet addresses or IP addr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 phone nu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r data network speeds 56 kbps to 40 Gbps per circu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r voice network secure without encry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7925760" y="632448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de area networks (WAN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fferences from metro-area (MAN) or local-area (LAN) ne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Globa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sco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ually provided by multiple carriers (one is lea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gacy WANs are present but usually not good choices for new data comm need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(point to point) circuits: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alup circuits: low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ame relay: still viable, being superseded by IP (cost, rea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drop networ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sed for bank ATMs, point-of-sale (POS) terminals, lottery termina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w that banks, stores have general Internet access, encrypted ATM and POS traffic often goes over the general ac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cket networks (X.25): expensive, limited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SAT (satellite): widely dispersed, low bandwidth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P-based networks becoming domin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ypically over a business-only, carrier-provided infrastructure separate from the open 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rrier/public network: major componen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56560" cy="53830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7601040" y="222876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ar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7581960" y="416412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ar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925760" y="658332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2980440" y="4191120"/>
            <a:ext cx="12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uter or IP-PB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3821400" y="1676520"/>
            <a:ext cx="229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per, becoming fiber or wirele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lecom service are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6" name="Picture 4" descr="Lec20a"/>
          <p:cNvPicPr/>
          <p:nvPr/>
        </p:nvPicPr>
        <p:blipFill>
          <a:blip r:embed="rId1"/>
          <a:stretch/>
        </p:blipFill>
        <p:spPr>
          <a:xfrm>
            <a:off x="1130400" y="1076400"/>
            <a:ext cx="694692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NET uses time division multiplexing (TD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locks in the network sync to a master clo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er/demultiplexers start/end a SONET circu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/drop multiplexers insert/extract subset of sign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OC-1 signal is 51.84 Mbits/s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voice call is 64 kbits/sec, or 0.064 Mbits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imum capacity= 51.84/0.064, or 810 voice chann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 it has about 15% overhead (framing, contro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actually carries 672 voice chann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 7 to 28 video channels (1.5 Mbps to 6 Mbp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OC-192 signal is 192 times higher capa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imum SONET rate (though fiber can go high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’s on a telephone po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ree types of network; name th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is highest on the pole?  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of these are point to point connectio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are shared (point to many)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of these can carry dat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of these can carry voi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have competitive (open) acces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type(s) of wiring does each u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ber optic (SONET) ring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220760" y="701640"/>
            <a:ext cx="6170760" cy="60800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7849800" y="647712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SO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are a large airline with a single server site that handles all your reserv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erage transaction is 10,000 bytes (80,000 bi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ust handle 2,000 transactions/sec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re can you locate your servers on the network in the previous sli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central office A, in a telco colocation sit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 SONET hub on one of the OC-12 ring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 multiplexer on one of the OC-3 ring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ute the server bandwidth and compare to the network bandwid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C-3 is 3 * OC-1; OC-12 is 12 * OC-1; OC-48 is 48 * OC-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need 80,000 * 2,000= 160 Mbits/s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-1 is 51 Mbits/s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-3 is 155 Mbits/sec. Not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-12 is 622 Mbits/sec.  Clearly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need to be at central office A or at a SONET hub on one of the OC-12 rin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don’t need the full OC-12 or OC-48 capacity. Carriers will sell you an appropriate fra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peater: layer 1 LAN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idge: layer 2 LAN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uter: layer 3 LAN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teway: layer 7 LAN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SAT: Very Small Aperture Terminal (satelli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.25: Packet service, pre-Internet (replaced by I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BX: Private branch exchange, to switch voice calls in an office (now mostly IP-PB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TA: Local access and transport area, defines service areas for regulatory, pric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’s on a telephone pol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ectr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ble T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is highest on pole? Wh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ectric, high voltage/curr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of these are point-to-point connection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 on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are shared (point-to-many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ectric, c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can carry dat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, cable, electr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can carry voi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, cable, electr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have competitive acces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: unbundled to CLE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ble: not competiti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ectric: distribution monopoly, generation competiti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type(s) of wiring does each u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: copper, fib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ble: coax, fib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ectric: copp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lecom systems manageme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44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r project/system must estimate the amount of data to be exchanged with partners/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rehouse RFID example from last l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must choose appropriate technolog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red: higher bandwidth/reliability (~gigabits/sec/circui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reless: mobile, flexible, low bandwidth (~megabits/sec/ce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must choose between build, lease, or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pends on right of way, sc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will interconnect different network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al area (LAN), metro area (MAN), wide area (W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r networks will be standards ba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must choose carriers, bandwidths, service levels, costs, etc., similar to physical trans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are likely to need a lot of bandwid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lecom bandwidt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5238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dwidth is a key iss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data carried over analog (continuous) circuits at the physical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ne were designed for data: telecom circuits for voice, broadcast and CATV for radio and T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have been repurposed to carry data while retaining their historic physical structure ($$$ existing capit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og bandwidth measured in Hz: cycles/sec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reless communications can carry 2 bits/Hz in 5 GHz b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red communications have vastly more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ula for digital bandwidth based on signal/noise rat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factors determine the building blocks you’ll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st channels have more bandwidth than 1 user nee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users are multiplexed (shared) on comm chann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lecom network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440" y="14479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travels over different network seg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N at your site: cheap, high bandwidth (1 Gbps+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ion from your site to local switch/cable headen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pper: ~5 Mbps, cost 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TV: ~20 Mbps,  cost 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ber: essentially unlimited, cost 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ecom or CATV network: fiber, high bandwidth, che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nchronous optical network (SONET) r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y high availability (99.999%),  recover from many fa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circuits are permanent, unlike voice ca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packet flow over the permanent network is 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rier IP networks handle most voice, data and 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rge routers exist at carrier switch facilities for IP traff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r networks are generally not encrypted; rely on physical 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Data communication protocol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667480" cy="5220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7849800" y="650700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TCP/IP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5" name="Picture 4" descr="Lec20d"/>
          <p:cNvPicPr/>
          <p:nvPr/>
        </p:nvPicPr>
        <p:blipFill>
          <a:blip r:embed="rId1"/>
          <a:stretch/>
        </p:blipFill>
        <p:spPr>
          <a:xfrm>
            <a:off x="2057400" y="1066680"/>
            <a:ext cx="5064120" cy="56152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7849800" y="650700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ANs and WAN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8" name="Picture 4" descr="Lec20b"/>
          <p:cNvPicPr/>
          <p:nvPr/>
        </p:nvPicPr>
        <p:blipFill>
          <a:blip r:embed="rId1"/>
          <a:stretch/>
        </p:blipFill>
        <p:spPr>
          <a:xfrm>
            <a:off x="838080" y="2209680"/>
            <a:ext cx="7772400" cy="3198960"/>
          </a:xfrm>
          <a:prstGeom prst="rect">
            <a:avLst/>
          </a:prstGeom>
          <a:ln w="0">
            <a:noFill/>
          </a:ln>
        </p:spPr>
      </p:pic>
      <p:sp>
        <p:nvSpPr>
          <p:cNvPr id="69" name="TextBox 1"/>
          <p:cNvSpPr/>
          <p:nvPr/>
        </p:nvSpPr>
        <p:spPr>
          <a:xfrm>
            <a:off x="2453760" y="5943600"/>
            <a:ext cx="42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/or MAN if within a metro ar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0" name="Straight Arrow Connector 3"/>
          <p:cNvCxnSpPr/>
          <p:nvPr/>
        </p:nvCxnSpPr>
        <p:spPr>
          <a:xfrm flipH="1" flipV="1">
            <a:off x="4494960" y="4952520"/>
            <a:ext cx="113400" cy="99144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9-11-21T00:54:03Z</cp:lastPrinted>
  <dcterms:modified xsi:type="dcterms:W3CDTF">2013-11-27T15:06:41Z</dcterms:modified>
  <cp:revision>248</cp:revision>
  <dc:subject/>
  <dc:title>1.264 Lecture 5</dc:title>
</cp:coreProperties>
</file>