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5A5B-9487-487E-AA0E-E73AAC004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3467-C496-4720-A5AD-8E342C1846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B6C5E-FBA3-4677-B949-13F3A1B1C1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27676-1EA3-4A2A-AB45-AF5C279076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DFFF2-A1CE-4D5C-87A2-7854764CE0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4E2C-9634-4594-9DE4-09EB726021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D899-7C7A-4F63-A228-065A6B69DA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9B11-8FD9-459F-927A-A44C473097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15A2-00F9-4CF1-A5DD-BA05395063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8F56-134A-4359-B5FB-043C289ED8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2031-03B1-4D94-BD45-643B4ADD09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6E69-EBA5-4487-81DC-C3D3A78763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E7FF-2132-4C20-8486-4F7A85326A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8A4D-6D16-4BD0-8299-3334379576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3A7E-7D08-4DFF-B2F6-B65DF8ED5F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9F22-8DC5-4B72-8A4C-BDCE3AB7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4AF2-5055-4EA3-84D5-6FA88562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F22-578D-4FD9-BB72-0E076016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A76-DC86-4B84-954C-5183DD51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2F8-FB85-4427-B430-1F35C935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51B-2189-4B62-A52C-2353E11B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39AC-3CFA-418D-B2BE-B8FE38E7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F6D2-EC09-44FA-9C90-C5DFED3A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CAC8-8BB4-4457-B448-A2534ED6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1FBD-C8EC-4AC2-96E0-759E5FE3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25C-165B-4EA0-80FB-F26D6D57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A14-04D5-4AC9-9373-66602FC2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917C-3F01-40AF-9B8E-4F37C10AB7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1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database: Forms and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65720" y="5719680"/>
            <a:ext cx="60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 continue using Web site Lecture18 in this lec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SP.NET book, chapters 11-12.  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1909800"/>
            <a:ext cx="60804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Display, edit and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Customer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ORDER BY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Advanced’ and generate edit, update, delete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s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edit,  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header &lt;h2&gt; at the top of the ContentPlaceHolder: “Custom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: edit, de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’t delete a customer if they have an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not present in Grid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990720" y="1938240"/>
            <a:ext cx="71038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Display, edit, insert,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SalesR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ORDER BY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a second SqlDataSource into ContentPlaceHolder, below the firs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WHER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WHERE button: RepNbr, =, Control, GridView1, A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Advanced button: Generate INSERT,UPDATE,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FormView control onto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second SqlDataSource as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&lt;h2&gt;, save, and test in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, cont: Display, edit, insert, dele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View doesn’t update when you change data. To make it do 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Design view, click on Form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Events button (lightning bolt) in Properties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click ItemInserted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following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View1.DataBi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double-click ItemDele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double-click ItemUpda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 your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itle at top of all the pages you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3696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ta transmittal across Web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pages request a response from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Web browser sends an HTTP POST request 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L is, e.g., localhost/Customers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aspx page is a program that dynamically generates the response xhtml (or XML)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your browser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ght click, select “View Source” on result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is an xhtml page; the logic on the .aspx page has been executed and the response returned to your brow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e that we are dragging and dropping controls, without doing any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will probably become the standard way to build business systems: it can be done by analysts, not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alized controls for supply chain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TTP and XHT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only direct form of interaction between browser and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 an extremely perceptive extension of email, ftp protocols by Tim Berners-Lee to enable Web brow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-response paradig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made for each request/response p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e Web protocol, very s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ge definition language, based on ta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level page description, not specific format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 used to enter and submit data to Web server, and to invoke dynamic Web pages on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er and its pages are a communications channel between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first create communications between a user and a database by using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visible and intuitive, use the same princ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XHTML pages and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-database communications will be covered n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XML and HTTP, packaged in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-readable, can be validated by mach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e human review is still used because there isn’t complete trust among trading partners, engineering collaborator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-machine communications create SQL database queries to fill in ‘XML forms’ and send them to the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XHTML forms transmit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 allow a series of controls to be placed on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s are text boxes, dropdowns, radio buttons, check box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control has a name and a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 data is sent when user presses ‘Submit’ button. Op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URL with HTTP POST command as string of for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me1=Value1&amp;Name2=Value2&amp;…NameN=Valu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data is string sent after blank line after HTTP 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URL with HTTP GET command, appended to end of GET string after a ?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/Index.html?Name1=Value1&amp;Name2=Value2&amp;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Web servic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followed by an XML doc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XML later: it allow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alida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siness 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’s ‘Submit’ button is associated with the URL of an applicatio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thod that will process the input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programs hav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ethod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function points) to extract the data from the POST or GET command and use it in the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unted Web pages and estimated function points earl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rowser-server forms intera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22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1: Browser requests form without any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2: Server fetches and returns input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3: User fills out or edits input form and presses ‘submit’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4: Browser packages form into query string and sends to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5: Program synthesizes a response document and returns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912200" y="114192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7282440" y="114048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619520" y="175068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T /App/Page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7543800" y="167472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7543800" y="2360520"/>
            <a:ext cx="838080" cy="38124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7543800" y="380844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Pr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7543800" y="464652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Pr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4584600" y="3686400"/>
            <a:ext cx="21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ST /App/Prog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me=Pat&amp;state=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 rot="10854000">
            <a:off x="5333760" y="228420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 rot="10854000">
            <a:off x="5333760" y="312228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14"/>
          <p:cNvSpPr/>
          <p:nvPr/>
        </p:nvSpPr>
        <p:spPr>
          <a:xfrm rot="10854000">
            <a:off x="5333760" y="457020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6553080" y="1903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 flipH="1">
            <a:off x="6172200" y="2589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7"/>
          <p:cNvSpPr/>
          <p:nvPr/>
        </p:nvSpPr>
        <p:spPr>
          <a:xfrm>
            <a:off x="5562720" y="29703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7010280" y="403704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 flipH="1">
            <a:off x="6172200" y="487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5410080" y="2589120"/>
            <a:ext cx="3812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5410080" y="2741760"/>
            <a:ext cx="38124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5410080" y="3427560"/>
            <a:ext cx="38124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5410080" y="3579840"/>
            <a:ext cx="3812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4"/>
          <p:cNvSpPr/>
          <p:nvPr/>
        </p:nvSpPr>
        <p:spPr>
          <a:xfrm>
            <a:off x="5410080" y="4875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25"/>
          <p:cNvSpPr/>
          <p:nvPr/>
        </p:nvSpPr>
        <p:spPr>
          <a:xfrm>
            <a:off x="5410080" y="49514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5410080" y="502776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5486400" y="4646520"/>
            <a:ext cx="152280" cy="152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8"/>
          <p:cNvSpPr/>
          <p:nvPr/>
        </p:nvSpPr>
        <p:spPr>
          <a:xfrm>
            <a:off x="576720" y="5484960"/>
            <a:ext cx="850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orm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lso support dynamic controls on an xhtml (aspx) page, such 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NET’s SqlDataSource, GridView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.NET, all pages that return dynamic results are .aspx pages and are for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XHTML input for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tml xmlns="http://www.w3.org/1999/xhtml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itle&gt;&lt;/titl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form action="inputForm.aspx" method="post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ast name: &lt;input type="text" name="lName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First name: &lt;input type="text" name="fName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input type="submit" value="submit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for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057400" y="4572000"/>
            <a:ext cx="688968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Set SQL Server database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login for SQL Server in SSMS if you haven’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Object Explorer, open Security-&gt; Log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ght click, select ‘New logi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SQL Server authorization; enter name, passw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default database=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all server roles, check user mapping for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Create Web site, database conne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VSW, use Lecture 18 site from la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ete Default.aspx, Site.master. We’ll replac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Lecture18 zip file if you didn’t alre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zip it in a temporary directory and then move its files to the Lecture18 Web site at C:\Inetpub\wwwroot\Lecture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T.master has common graphics for each page and a placeholder for active cont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ages folder contains graphics used in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.sitemap contains navigation structure of your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resh the solution explorer after moving files into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ls-&gt; Connect to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: .\SQLEXPRESS or SQLEXP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n name and password you set up earl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name: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ok at database in Database Explorer in VW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Create XHTML form (.aspx pag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ew-&gt;Toolbo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toolbox appear along left margin of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-&gt; New File-&gt; Web Form: Orders.asp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master page and select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heck ‘code in separate fil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Design view, from the Tool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a SqlDataSource control into the ContentPlaceHol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he arrow at its top right, then on configure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connection you already cre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Orders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* to get all columns, ORDER BY C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st query and fin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a GridView control on top of the SqlData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ose data 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‘enable sorting’ and ‘enable pag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2 &lt;h2&gt; with “Orders”. Save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the browser symbol on the toolbar to test th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XHTML Customers pa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Web page to display the Customers table: Customers.aspx. Same steps as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MIT.master for its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sorting and p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Default.aspx with new XHTML that uses MIT.ma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the name Defaul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short text in the ContentPlaceHolder on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links in MIT.master to point to your Orders, Customers pages, not De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one, test with the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at Defaul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vigate to Orders and Customers and then back to Defa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browser, “View Source” to see what XHTML has been gener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3T14:40:48Z</cp:lastPrinted>
  <dcterms:modified xsi:type="dcterms:W3CDTF">2013-10-20T20:55:59Z</dcterms:modified>
  <cp:revision>317</cp:revision>
  <dc:subject/>
  <dc:title>1.264 Lecture 5</dc:title>
</cp:coreProperties>
</file>