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B6641-9AD9-44FE-A443-649023FE6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A97B4-C077-40B1-B105-D61873448F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82DE0-1693-4937-BFBC-1B210097F1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F618A-D334-44D7-82C1-15006B00DA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C206C-AB42-48D8-8C3D-A2A5D69802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6B3C3-99A8-47B1-92D6-3DA4B8B0BA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A5E14-B3CA-4B02-9494-7E557BBF1A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D16C6-C3A6-45FD-B3DA-8401DA8F1F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7BAF3-9F30-416D-9B76-224CC9151B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B3409-B2DB-4332-911B-BB1FD32BA9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CCB23-32DA-4E4F-AABB-1BD4616C79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4F979-DCF8-4B91-87A0-4B82FE8240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1ADA0-3BCE-4D74-B6C8-8D089C1BED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6657C-7F5D-4417-A0F9-7BC76E474F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12D28-85C8-4A33-9E7B-DAC3B23B6F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B39E4-7499-4D83-8A09-289ABA17BA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21071-2FA5-423B-BD82-CB59D81850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4EF64-454F-4C31-A129-5D9090FF55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4E835-6DC3-4EC2-BCF8-D0AC259EC4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813-7D23-4730-919C-0A5F83D5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AE57-5E0B-44C6-95F1-01BCC89D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C9F-1E61-43A9-82C6-E17989C9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B04-2395-4AC9-8203-2388EDE0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FDB-A339-4C68-8768-C774490D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533-5382-400C-A28E-9F20637E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B5C-C067-4123-A5D8-A43173DF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CEC-983B-4EC2-8229-5DDC0C81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30D-E973-47D0-96CE-936447CB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B626-003C-4907-AA0E-C3A9D50E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CC1-6DCC-409F-9179-824A15F1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62F-F13A-4319-AE6D-C22CE667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4E08-151F-4F62-9D95-4EAAAD3F7E8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6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less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898000" y="5719680"/>
            <a:ext cx="31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ease do subject evaluation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service se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oom or area is a typical BSS (basic service se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ESS is a set of rooms and areas in the 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ons capabilities may b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ary on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within a single BSS (ad hoc or infrastructur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between BSS, but communication may not be continuous during the mo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48280" cy="2532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7662240" y="647388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om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Fi (802.11b, 802.11g, 802.11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pensive, pervasive, reliable, easy to man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t spots common, but unscalable for metro area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~100 meters: ok within buildings, campu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: 11 Mbps (b), 54 Mbps (g), 100 Mbps (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bandwidth often half of nominal due to interference, fading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lf of traffic at many companies is non-work (music or video streaming, Web access, personal email, 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is difficult, because signals propagate beyond the building or s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P easy to break; use WPA and WPA2 instea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n’t use WPS (WiFi protected setup); it has a security fla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nicipal network plans problematic (30+ points/sq m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 warehouse, what type of LAN would you set up (ad hoc, BSS, ESS), and wh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forklifts and other vehicles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pick/pack stations, conveyor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uld you try to lay out the network to minimize handoffs, or is that not important? Why or why no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802.11b, how would you stream video from 25 forklifts/vehicles in the wareho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your video is 1.5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an ESS, to allow handoffs and to connect all devices/stations to the WAN if nee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y out the network to cover aisles/areas that minimize handoff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ions is not continuous in wireless LAN handoff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deo: 802.11b is 11 Mbps, or 5.5 Mbps practic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need 25 * 1.5 Mbps, or 37.5 Mbps, or at least 8 BSS, which is one AP for every 3 vehicles in an ar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interference, fading, etc. you may need m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use 802.11n, at 100 Mbps nominal or 50 Mbps actual, you may find 2 APs sufficient (1 for redundanc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bile telephony is dominant. Alternatives a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mobile radio (SMR), used primarily for local dispat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3,000 licensed SMR providers in US (taxi, trucking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bought many SMR providers and created national network: radio, cell phone, data, messag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uses variation on GSM cellular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mobile radio service (police, fire, railroads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 frequencies among all us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 stations, repeaters; squelch or tone contr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unking radio (multiple channels) used by larger organiz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control channel to which all units liste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lk channel then designat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options use spectrum less well than cell pho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ing pushed to narrowband; other meas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(cellular)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ell phone is a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fore cell phones, there was mobile radio, with one tower per metro area and about 25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 phones had to be high powered but for little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telephony divides a metro area into cells for much, much more capac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32 channels in standard US cellular radio spectrum band; European GSM varies but simil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 to 5 more bands have been allocated via auction in 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ne can operate on any of these 1,000+ chann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switches are called Mobile Telephone Switching Offices, or MTS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s same as standard telco voice switch, plus handoff across cells, for voice ca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TCP/IP data for data and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SM (2G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is European standard, adopted worldwide and increasingly in 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a 2G (second generation) standard, being superseded by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switches voice calls, like landlines, and is being replaced by voice over 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voice band is 13 kbps (versus 64 kbps fib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GSM has 124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channel is 270.8 kbps carried in 2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users per chann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SM can (re)use 1/3 of channels in each cell, due to good error corr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acity =~ 124 channels * 8 users/channel * 1/3 reuse= 329 calls (users) per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data is carried over GPRS (General Packet Radio Services), often considered 2.5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wide standard, though frequency bands vary by reg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aming phones must use different frequency ban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a few common frequency bands worldw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ed for many servic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-time gam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download and uplo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and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 data protocols are WCDMA, HS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ad use, continue to evolve new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 be supported for many years until full 4G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500 kbps to 1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is also called LTE (long term evolution) and release 8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 (in GSM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backward compatible with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rely IP based; no voice switched traff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spectrum flexibility for worldwide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offs at 350 km/hr to support high speed r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ny individual phone supports limited spectrum, since RF and filter design are expensive/inflexi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up to 20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rcity of bandwidth resulting in throttling of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 (50% of US) 1x-EV-DO Rev C is very similar to LTE, and is converging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2 (in CDMA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equency reuse in cellular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938160" y="1460520"/>
            <a:ext cx="7139160" cy="4559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1094040" y="601992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7-cell pattern; 9-cell is also comm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a system for an intercity rail passenger train to provide Internet access to its passengers and operating crew. Address each challeng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ro areas: frequent physical obstructions, such as underpasses, tall build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ne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ral areas: gaps in cellular coverage, trees, hills obstruct line of s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applications: what to do when a user wants to download a 200MB 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changes: train goes through many networks of varying quality at varying spee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ption in passenger cars: metal car bodies affect sig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ular serv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Picture 4" descr="Lec21e"/>
          <p:cNvPicPr/>
          <p:nvPr/>
        </p:nvPicPr>
        <p:blipFill>
          <a:blip r:embed="rId1"/>
          <a:stretch/>
        </p:blipFill>
        <p:spPr>
          <a:xfrm>
            <a:off x="1836720" y="990720"/>
            <a:ext cx="5630760" cy="5486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006200" y="6521400"/>
            <a:ext cx="75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ple honeycomb pattern rarely holds. Actual cell coverage highly varia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ume LTE can provide 20 Mbps to areas with industry/warehousing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a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ocation ser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100 locations in the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each has 10 Web users (1 Mbps), 1 Web/data server (5 Mbps), limited videoconference/video (4 Mb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tal bandwidth for each location is 10 Mbps (1+5+4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re LTE t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, a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(30-300 Mbps, asymmetric bu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all 100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(1 G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LTE solve the ‘last mile’ problem sometim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verage user needs 10 Mb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) may meet it in some cases, but usually not. DSL usually 3-6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has 30-300 Mbps, but 100 users *10 Mbps= 1 Gbps. CATV would need many segments; not effec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) is not enoug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is plenty, of cour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(20 Mbps) is suffici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andwidth is available. In lower and medium density areas, it should be 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ell can handle 100+ channels at 20 M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appears to solve the ‘last mile’ problem for residences (low/medium density) and low/medium density small business, but not major bandwidth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ng-range wireless: satellite commun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1684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s (wireless WA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 satellites are on the equator and orbit every 24 hours, appearing statio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satellites 120 degrees apart can cover the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 orbits are between the two Van Allen belts of charged particles that would destroy a satell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satellites orbit every 6 to 8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is a set of 24 MEO satellites in 6 orbits, designed so 4 satellites are always visible from any point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triangulates among the 4 satellites to determine position in 3D; it computes intersection of sphe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O satellites are in polar orb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orbit every 90 to 120 minu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managed like a set of cells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ttle” LEOs: text messaging (e.g. truckin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” LEOs: Iridium, Globalstar (e.g. sat phon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s: network video, other broadb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marsat for marine and remote 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0,000 ships, vehicles, aircraf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2 kbps Internet access data rate, 11 satell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se service ended in 2005 for commercial vess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y small aperture terminal (VSAT): 56 kbps- 4 Mbps for remote area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areas can get 18 Mbps down, 4 M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data rates 512 kbps or less down, 128 k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Internet providers’ for rural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AT operators for Africa, other areas without fi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V programming distrib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 broadcast T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O, L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adband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desic, similar to fiber,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g LE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ridium not successful but still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 expensive to compete with terrestrial cell serv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6 satellites, each with 48 spot beams: ~2000 cel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, fax, paging at 2.4 to 4.8 k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star has 48 satellites, similar service as Iridiu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ucking and rail information systems, pag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positioning system (G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lin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0" name="Picture 4" descr="Lec21d"/>
          <p:cNvPicPr/>
          <p:nvPr/>
        </p:nvPicPr>
        <p:blipFill>
          <a:blip r:embed="rId1"/>
          <a:stretch/>
        </p:blipFill>
        <p:spPr>
          <a:xfrm>
            <a:off x="1254240" y="1981080"/>
            <a:ext cx="663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a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0 milliseconds (1/4 second) delay between two Earth stations communicating via geosynchronous (GEO) satelli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noticeable for voice commun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requires special treatment of dat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CP/IP will assume network congestion or dropped packets with these delays; must use special parameters or equipment to spoof acknowledgem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in absorp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n transit outage at equinox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wer is limited on satell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ed signal to noise ratio, limits bandwid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 Broadcast Satellite (DBS) satellites are overpowered to allow small consumer antennas; overall system costs are hig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ttle room left for satellites in equatorial (GEO) orbi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operate a diamond mine in northern Canada and need 20 Mbps to remotely monitor and diagnose mining equipment, provide Internet and some video for employees, handle email and files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 GEO, big LEO, little LEO, broadband LEO, MEO to meet your nee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ould the other end of the satellite link connect? Does it matter? Options are your corporate HQ, a large peering point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 flipV="1">
            <a:off x="990720" y="3962160"/>
            <a:ext cx="7772400" cy="6858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886200" y="5105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l 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14400" y="38098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019920" y="388620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362320" y="3124080"/>
            <a:ext cx="30456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819520" y="4191120"/>
            <a:ext cx="30456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956320" y="31640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191120" y="4267080"/>
            <a:ext cx="99036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889440" y="380988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pa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 flipV="1">
            <a:off x="3886200" y="44953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7529400" y="278280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7315560" y="43070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lls, tr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 need 20 Mbps up and down in northern Can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 offers max 18 Mbps down and 4 Mbps up, and not in all area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ar areas are strange: beams are turned off from lack of demand but could possibly be turned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need 5 connections, which would be expensive…but a diamond mine can probably pay 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 LEO and Little LEO are low bandwid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does not offer data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 (Teledesic)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y connect near corporate HQ to use MAN from ground station to HQ for cost, bandwidth, security reas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838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SS: Basic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: Extended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P: Wired Equivalent Privacy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PA: WiFi Protected Access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R: Specialized Mobile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: Code Division Multiple Access (US wireles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: Global System for Mobile Communications (wireless voice standard, worldwi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RS: General Packet Radio Service, over GS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CDMA: Wideband Code Division Multiple Access (3G data standar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SPA: High Speed Packet Access (3G dat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PP: 3G Partnership Project (sets 3G/4G std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x EV-DO: Evolution-Data Optimized (3G CDM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carri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hooses best signal, maintains 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WiFi (wireless LAN) at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nels (short ones)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aches Web content, handles email via store and forw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ng tunnels require leaky fiber and/or base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ral area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 carriers, and satellite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in trai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ennas mounted on multiple cars, wireless LAN between cars so any antenna can serve all ca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, applicati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train server manages traffic, ensures ‘fairness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handles authentication and bill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How do long distance trucking, buses do this?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RailWirelessLec22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540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603120" y="6581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pointshotwireless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: Amtrak wireless covera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072040" cy="5581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7294320" y="640080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: Amtra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propag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s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e space lo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mospheric attenuation: rain, water, du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ath loss: water body or fog causes reflections, and signals arrive out of phase at destin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raction: hills, buildings, obstr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enna proble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now, icing (use heaters, radom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oning restrictions (hide antennas in building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wave frequencies are line of s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ve like light, can be focused and refl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issues hold for mobile phones, wireless data, satellites al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lo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7" name="Picture 4" descr="Lec21b"/>
          <p:cNvPicPr/>
          <p:nvPr/>
        </p:nvPicPr>
        <p:blipFill>
          <a:blip r:embed="rId1"/>
          <a:stretch/>
        </p:blipFill>
        <p:spPr>
          <a:xfrm>
            <a:off x="2286000" y="990720"/>
            <a:ext cx="4479840" cy="217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Lec21c"/>
          <p:cNvPicPr/>
          <p:nvPr/>
        </p:nvPicPr>
        <p:blipFill>
          <a:blip r:embed="rId2"/>
          <a:stretch/>
        </p:blipFill>
        <p:spPr>
          <a:xfrm>
            <a:off x="1905120" y="3352680"/>
            <a:ext cx="532908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LAN (WiFi) standard is IEEE 802.1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types of wireless L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d ho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ere stations (computers) directly conn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ith an access point (AP) that connects to a wired LAN and usually a MAN/W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ed coordination required between stations due to colli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sense multiple access/collision avoidance (CSMA/CA) protocol is used, as discussed earl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environment is very noi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mes are fragmented into small frames so retransmission, which is frequent, is more effici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6T00:37:43Z</cp:lastPrinted>
  <dcterms:modified xsi:type="dcterms:W3CDTF">2013-12-07T14:39:08Z</dcterms:modified>
  <cp:revision>257</cp:revision>
  <dc:subject/>
  <dc:title>1.264 Lecture 5</dc:title>
</cp:coreProperties>
</file>