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media/image4.jpeg" ContentType="image/jpeg"/>
  <Override PartName="/ppt/media/image5.jpeg" ContentType="image/jpeg"/>
  <Override PartName="/ppt/media/image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840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2000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5070FEBF-152A-4074-9108-D8A410C2B9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5EBCA3B5-A61D-4797-875F-53E473B16AD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324BA3D2-545F-4419-BA1E-28B58DEB4AD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7D293BD7-B226-4A91-A00E-51016B97BBE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A0738602-96FA-49A8-98A7-8ED6E23C234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21720756-4A98-4EC1-B7F7-6DC18E857BA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CD1A33D4-9A30-4ED9-BA56-7B333C991F4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B1AB5F75-36F2-4034-B3FF-150EE19EC7E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0AF34EC8-01CA-4DF0-9D6C-703DB6B1BDF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DDB4A019-E8A7-400E-BE80-25EE09F889F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8D5E7266-3BD1-4B3D-BEEC-03E9539326E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C86367BC-184A-4D6F-8288-E4327976019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1850DD4D-3AF8-4396-A16E-D48D2E7DAA2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D6B2DC1E-1C65-4759-9C1F-3C6414E70F9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B0577400-E851-4937-B46F-AE1B773BD45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9FDAB652-8FB8-41D8-8084-73672D5CD8D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77F48C94-F432-4F98-AA26-B22283A062A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AD378-0232-4E56-B04B-4843547CF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0614C-45DE-4F8A-A738-F24FE635F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ED545-075F-4580-95B1-21E315677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6D2A5-46DF-42CB-92F5-A2BAE4341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E38F3-8016-4DB2-BE0A-EF4D11025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3BFD0-45CF-4E07-BAB2-00EE0C535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15E3D-DD67-48F5-B5E4-89F5DB058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B1FAF-F5E9-4286-99C0-5D4A46F67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523DE-DB66-4952-8779-14D97917A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3032D-A694-4335-903B-7D385560D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4342B-01C1-48AE-AB7F-211495A1B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B9FDB-8237-4753-A8F6-07EE5E4E5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9BB90-996E-4AE8-9A3A-6BA7FDCEC24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1.264 Lecture 34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lecom: Connecting wired LAN, W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1836720" y="5719680"/>
            <a:ext cx="4971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Next class: Green chapter 17.  Exercise due </a:t>
            </a:r>
            <a:r>
              <a:rPr b="1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before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clas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http://web.mit.edu/subjectevalua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ccess to metro area Ethernet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thernet in the First Mile (EF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pper: encapsulate Ethernet within modified DS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 Mbps up to 2.7 km, 10 Mbps up to 0.8 k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ber: essentially Gigabit Ethernet, up to 20 k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oes not provide self-healing or diverse rout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silient Packet Ring (RP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vides alternate routes and failover, like SON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ual counter-rotating ring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Keeps Ethernet simplicity for applications, manage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MAN Ethernet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83" name="Picture 4" descr="Lec22b"/>
          <p:cNvPicPr/>
          <p:nvPr/>
        </p:nvPicPr>
        <p:blipFill>
          <a:blip r:embed="rId1"/>
          <a:stretch/>
        </p:blipFill>
        <p:spPr>
          <a:xfrm>
            <a:off x="1523880" y="1295280"/>
            <a:ext cx="6188040" cy="52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xercise: MAN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685800" y="1981080"/>
          <a:ext cx="7772400" cy="3133800"/>
        </p:xfrm>
        <a:graphic>
          <a:graphicData uri="http://schemas.openxmlformats.org/drawingml/2006/table">
            <a:tbl>
              <a:tblPr/>
              <a:tblGrid>
                <a:gridCol w="2590920"/>
                <a:gridCol w="2590560"/>
                <a:gridCol w="25909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A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9900"/>
                    </a:solidFill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 (kilometers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wn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mber of devic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ndwidth (Mbps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iliency/redundancy (yes/no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 there a service level agreement (contract)?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</a:tr>
            </a:tbl>
          </a:graphicData>
        </a:graphic>
      </p:graphicFrame>
      <p:sp>
        <p:nvSpPr>
          <p:cNvPr id="86" name="TextBox 5"/>
          <p:cNvSpPr/>
          <p:nvPr/>
        </p:nvSpPr>
        <p:spPr>
          <a:xfrm>
            <a:off x="850680" y="5410080"/>
            <a:ext cx="729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ive approximate ranges for distance, devices, bandwidth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olution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685800" y="1981080"/>
          <a:ext cx="7772400" cy="3133800"/>
        </p:xfrm>
        <a:graphic>
          <a:graphicData uri="http://schemas.openxmlformats.org/drawingml/2006/table">
            <a:tbl>
              <a:tblPr/>
              <a:tblGrid>
                <a:gridCol w="2590920"/>
                <a:gridCol w="2590560"/>
                <a:gridCol w="25909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A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9900"/>
                    </a:solidFill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 (kilometers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-5 k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-50 k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wn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any/us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ri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mber of devic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-1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-100,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ndwidth (Mbps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Mbps-1 Gbit/sec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Mbps-10 Gbit/sec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iliency/redundancy (yes/no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, usuall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 there a service level agreement (contract)?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ccess technologies to connect LAN to WAN, if there is no MAN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nown as ‘last mile’ probl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igh bandwidth at LAN and MAN, but little in ‘last mile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igital subscriber line (DSL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vided over existing copper lines to telco switc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Z (and others) moving DSL users to 4G LTE, in preparation of abandoning copper pla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able acc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vided over existing coax cable to CATV head e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reless acc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4G cellular “long term evolution” (LT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atellite, in remote/ocean/air settin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ber to the business/home/cur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7925760" y="6583320"/>
            <a:ext cx="122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[TE] Chapter 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Digital Subscriber Line (DSL)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93" name="Picture 4" descr="Lec20e"/>
          <p:cNvPicPr/>
          <p:nvPr/>
        </p:nvPicPr>
        <p:blipFill>
          <a:blip r:embed="rId1"/>
          <a:stretch/>
        </p:blipFill>
        <p:spPr>
          <a:xfrm>
            <a:off x="1447920" y="1676520"/>
            <a:ext cx="6208560" cy="4114800"/>
          </a:xfrm>
          <a:prstGeom prst="rect">
            <a:avLst/>
          </a:prstGeom>
          <a:ln w="0">
            <a:noFill/>
          </a:ln>
        </p:spPr>
      </p:pic>
      <p:sp>
        <p:nvSpPr>
          <p:cNvPr id="94" name="Text Box 6"/>
          <p:cNvSpPr/>
          <p:nvPr/>
        </p:nvSpPr>
        <p:spPr>
          <a:xfrm>
            <a:off x="1167840" y="5943600"/>
            <a:ext cx="6482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any technical variations: ADSL, HDSL, SDSL, VDS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ypically 12-18,000 foot limit; data rates of 500 kbps up to 8 Mbp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TextBox 1"/>
          <p:cNvSpPr/>
          <p:nvPr/>
        </p:nvSpPr>
        <p:spPr>
          <a:xfrm>
            <a:off x="2670840" y="4449600"/>
            <a:ext cx="790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carri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therne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symmetric DSL (ADSL)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253800" indent="-253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pper line from customer to central office can handle 1.1 MHz, in theo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49720" indent="-2113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ny impairments (noise, crosstalk, etc.) exi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53800" indent="-253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stream ADSL uses 24 4.3kHz channe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49720" indent="-2113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most same as voice channel, carries 60 kbps (not 64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49720" indent="-2113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 theory, we get 24 * 60 kbps, or 1.44 Mbps u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49720" indent="-2113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 practice, we get 500 kbp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53800" indent="-253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wnstream ADSL uses 224 4.3kHz channe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49720" indent="-2113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 theory, we get 13.4 Mbp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49720" indent="-2113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 practice, we get 8 Mbps or les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53800" indent="-253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ther vari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49720" indent="-2113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DSL uses 2 pairs for 1.5 Mbps up to 12,000 f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49720" indent="-2113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DSL uses 1 pair for 768 kbps up to 18,000 f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49720" indent="-2113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DSL may get 3-25 Mbps over 3,000+ f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able acces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able channel is 6MHz wide for broadcast vide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able bandwidth is 750 MHz approximately (coax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ownstream video: 45-550 MHz: 80 channels at 6 MHz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ownstream data: 550-750 MHz: 33 channels at 6 MHz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pstream data: 5-42 MHz: 6 channels at 6 MHz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ach channel can carry ~10 Mbps of data downstream, ~5-10 Mbps upstrea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ndwidth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shared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cross all cable users in seg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CSIS is cable standard for da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thernet-like protocol. Users contend/collide to sen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ata seen by all devices on cable segment, so it’s sometimes encrypted using RSA (public key encryption) and other protoco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able TV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01" name="Picture 3" descr=""/>
          <p:cNvPicPr/>
          <p:nvPr/>
        </p:nvPicPr>
        <p:blipFill>
          <a:blip r:embed="rId1"/>
          <a:stretch/>
        </p:blipFill>
        <p:spPr>
          <a:xfrm>
            <a:off x="1219320" y="1066680"/>
            <a:ext cx="6562440" cy="559116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4"/>
          <p:cNvSpPr/>
          <p:nvPr/>
        </p:nvSpPr>
        <p:spPr>
          <a:xfrm>
            <a:off x="2816640" y="3379680"/>
            <a:ext cx="148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ten fiber now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Wireless acces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4G cellular data (“long term evolution”: LT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0 Mbps, though bandwidth may satura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acing fiber to homes, small business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atelli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ownstream speeds acceptable (a few Mbp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pstream links either not available or very expensiv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28-256kbps can cost $800-$1,000/mont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atellites have limited power, long paths, high los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atellite paths have high delays, unsuitable for interac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an serve rural are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e cover wireless in detail la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xercis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ransportation brokerage company also handles billing for freight shipments, collecting from shippers and forwarding payment to carrier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is data must be secure; you route funds directly to banks in some cases and between customers in other cas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 would you communicate between your three major sites in New Jersey, Houston and Los Angele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You transfer approximately 10,000 bills of lading in a 1 hour window at the end of each day from Houston and Los Angeles to New Jersey, which is the only site connected to banks and custom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ach bill is about 500 kB of data (documents and signatures are scanned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the technology and bandwid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ill you use LAN, WAN or MAN technology, or combination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hich specific technologies will you use? Discuss options, pros/cons briefl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iscuss broader options surrounding your choic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xercis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You have a depot in an industrial area without carrier fiber optic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You have 1,000 buses that return to the depot every evening and upload video to a remote si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bus has 10 hours of 384 kbps vide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ata goes via WiFi (wireless LAN) from each bus to a depot server, and then to the remote server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You want all data to transmit in 2 hou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oose between DSL, cable TV and 4G wireless access.  Which of these 3 can handle it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f they can’t, what do you need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olution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685800" y="160020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ata/sec= 1,000 veh * 384 kbps= 384 Mbp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ime to send= 2 h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ime to record= 10 h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us, the data must be sent 5 times as fast as it was record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andwidth= 5 * 384 Mbps= 1920 Mbps= 1.92 Gbp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SL, CATV or 4G/LTE cannot handle th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You need OC-48 (2.5 Gbps) over fiber to do this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 might be better off having each bus send real time video over LTE, though it would be expensive…  You could sample, have driver control it (usually), et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Glossary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685800" y="121932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SP: Internet Service Provid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P: Network Access Point: ISP interconnect poi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eder: Telecom cable from central office (CO) to service area interface (SAI) in neighborhoo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istribution: Telecom cable from SAI to end poi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M: Ethernet in First Mile: access to M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PR: Resilient Packet Ring: access to M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SL: Digital Subscriber Line: Internet access over copp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SLAM: DSL access multiplexer, at central offi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C: Local exchange carrier (e.g., Verizion, AT&amp;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CSIS: Cable TV data standard, Ethernet-lik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olution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andwidth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500 kB x 8 bits/byte x 10 000 docs / 3600 seconds/h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pproximately 11 Mbps raw data ra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nection should be at least 15 Mbps, for overhead, et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f we route LA traffic via Houston, Houston-NJ needs 25-30 Mbp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ither case requires OC-1 (45-51 Mbps) bandwid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chnology: WAN between LANs at each si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only two links (LA-Houston and Houston-NJ), two point to point fiber optic links are a possible solu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94320" indent="-1987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sed only 1 hour a day, though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ternet could handle it but large bursty traffic across the country would have reliability proble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94320" indent="-1987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usiness traffic has security issues on open Intern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atellite bandwidth too low (network video has special deal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olution, p.2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6858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siness process can/must chang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9436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tablished years ago with small amount of data and expensive teleco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9436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eaper to send documents in real time no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9436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f docs sent in real time 10 hrs/day, bandwidth = 1.5Mbps, which can be handled by T1, DSL, … much less expensively.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1.5 Mbps is a sweet spo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9436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, look further: do we need to send all 500 kB to the bank? If we store the full document, can we send just the part the bank needs? Trade off complexity vs co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other reason why we use spiral mod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9436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lecom considerations at the very end can require changing a business proce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1828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hich requires changing requirements among channel partn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1828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d changes UML, database (maybe), Web services, et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9436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f we find this in the first spiral, we can change i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9436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f we find this at the end of chaos/waterfall, it can be despera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" descr="Lec20c"/>
          <p:cNvPicPr/>
          <p:nvPr/>
        </p:nvPicPr>
        <p:blipFill>
          <a:blip r:embed="rId1"/>
          <a:stretch/>
        </p:blipFill>
        <p:spPr>
          <a:xfrm>
            <a:off x="1371600" y="1295280"/>
            <a:ext cx="6727680" cy="514512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LAN, WAN and access (last mile)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Straight Connector 3"/>
          <p:cNvSpPr/>
          <p:nvPr/>
        </p:nvSpPr>
        <p:spPr>
          <a:xfrm>
            <a:off x="1676520" y="4572000"/>
            <a:ext cx="2514600" cy="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Straight Connector 9"/>
          <p:cNvSpPr/>
          <p:nvPr/>
        </p:nvSpPr>
        <p:spPr>
          <a:xfrm>
            <a:off x="1676520" y="6248520"/>
            <a:ext cx="2514600" cy="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Straight Connector 10"/>
          <p:cNvSpPr/>
          <p:nvPr/>
        </p:nvSpPr>
        <p:spPr>
          <a:xfrm>
            <a:off x="4191120" y="4572000"/>
            <a:ext cx="0" cy="167652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Straight Connector 13"/>
          <p:cNvSpPr/>
          <p:nvPr/>
        </p:nvSpPr>
        <p:spPr>
          <a:xfrm>
            <a:off x="1676520" y="4572000"/>
            <a:ext cx="0" cy="167652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Straight Connector 14"/>
          <p:cNvSpPr/>
          <p:nvPr/>
        </p:nvSpPr>
        <p:spPr>
          <a:xfrm>
            <a:off x="5410080" y="4572000"/>
            <a:ext cx="2514600" cy="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Straight Connector 15"/>
          <p:cNvSpPr/>
          <p:nvPr/>
        </p:nvSpPr>
        <p:spPr>
          <a:xfrm>
            <a:off x="5410080" y="6248520"/>
            <a:ext cx="2514600" cy="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Straight Connector 16"/>
          <p:cNvSpPr/>
          <p:nvPr/>
        </p:nvSpPr>
        <p:spPr>
          <a:xfrm>
            <a:off x="7924680" y="4572000"/>
            <a:ext cx="0" cy="167652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Straight Connector 17"/>
          <p:cNvSpPr/>
          <p:nvPr/>
        </p:nvSpPr>
        <p:spPr>
          <a:xfrm>
            <a:off x="5410080" y="4572000"/>
            <a:ext cx="0" cy="167652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TextBox 8"/>
          <p:cNvSpPr/>
          <p:nvPr/>
        </p:nvSpPr>
        <p:spPr>
          <a:xfrm>
            <a:off x="462960" y="5257800"/>
            <a:ext cx="80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TextBox 19"/>
          <p:cNvSpPr/>
          <p:nvPr/>
        </p:nvSpPr>
        <p:spPr>
          <a:xfrm>
            <a:off x="8103600" y="5257800"/>
            <a:ext cx="80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TextBox 20"/>
          <p:cNvSpPr/>
          <p:nvPr/>
        </p:nvSpPr>
        <p:spPr>
          <a:xfrm>
            <a:off x="455400" y="2743200"/>
            <a:ext cx="99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AN/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Outside plant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71" name="Picture 5" descr=""/>
          <p:cNvPicPr/>
          <p:nvPr/>
        </p:nvPicPr>
        <p:blipFill>
          <a:blip r:embed="rId1"/>
          <a:stretch/>
        </p:blipFill>
        <p:spPr>
          <a:xfrm>
            <a:off x="533520" y="595440"/>
            <a:ext cx="8109000" cy="6186240"/>
          </a:xfrm>
          <a:prstGeom prst="rect">
            <a:avLst/>
          </a:prstGeom>
          <a:ln w="0">
            <a:noFill/>
          </a:ln>
        </p:spPr>
      </p:pic>
      <p:sp>
        <p:nvSpPr>
          <p:cNvPr id="72" name="Text Box 6"/>
          <p:cNvSpPr/>
          <p:nvPr/>
        </p:nvSpPr>
        <p:spPr>
          <a:xfrm>
            <a:off x="7944840" y="6629400"/>
            <a:ext cx="122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[TE] Chapter 7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eeder and distribution cabl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74" name="Picture 5" descr=""/>
          <p:cNvPicPr/>
          <p:nvPr/>
        </p:nvPicPr>
        <p:blipFill>
          <a:blip r:embed="rId1"/>
          <a:stretch/>
        </p:blipFill>
        <p:spPr>
          <a:xfrm>
            <a:off x="712800" y="1066680"/>
            <a:ext cx="7440480" cy="5149800"/>
          </a:xfrm>
          <a:prstGeom prst="rect">
            <a:avLst/>
          </a:prstGeom>
          <a:ln w="0">
            <a:noFill/>
          </a:ln>
        </p:spPr>
      </p:pic>
      <p:sp>
        <p:nvSpPr>
          <p:cNvPr id="75" name="Text Box 6"/>
          <p:cNvSpPr/>
          <p:nvPr/>
        </p:nvSpPr>
        <p:spPr>
          <a:xfrm>
            <a:off x="52560" y="6335640"/>
            <a:ext cx="900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eeder cable becoming all-fiber. Some distribution is fiber, more plann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Metropolitan area networks (MANs)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-267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AN is public network that bridges LAN and WAN, typically spanning 5 to 50 k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-222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ro area Ethernet becoming dominant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91360" indent="-1782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mple for customer, extends Ethernet LA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91360" indent="-1782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arrier technology sophisticated but available, reliable, fairly low co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-222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uns over carrier fiber optic networ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-222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hared across business us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91360" indent="-1782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curity options: encryption or physical separ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-222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t connected to open Internet or consum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-222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necting LANs (sites) within a metro are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-222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torage area networks (SAN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-222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nect many sites to one WAN point of presence (POP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-222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deo, voice, graphics: bursty, high bandwidth da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Metro area Ethernet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igabit Ethernet (1,000 Mbp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-222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mpatible with Gigabit Ethernet LA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-222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5 to 50 km range per ho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91360" indent="-1782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ultiple Ethernet switches needed per metro are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-222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vailable in many metro areas; can buy fractions of Gb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G Ethernet (10 Gbps or 10,000 Mbp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-222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most completely compatible with slower Ethern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-222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sentially compatible with SON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91360" indent="-1782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0G Ethernet is close to OC-192, and protocols ma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-222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ange up to 40 k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-222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ecoming available; can buy fractions of bandwid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oth options have technology (“tags”) to allow network to sca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891360" indent="-1782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thernet switches discover all devi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91360" indent="-1782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N Ethernet can have 100,000s of devi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19T18:28:28Z</dcterms:created>
  <dc:creator>George Kocur</dc:creator>
  <dc:description/>
  <dc:language>en-US</dc:language>
  <cp:lastModifiedBy>gkocur</cp:lastModifiedBy>
  <cp:lastPrinted>2013-12-01T15:51:30Z</cp:lastPrinted>
  <dcterms:modified xsi:type="dcterms:W3CDTF">2013-12-01T16:27:19Z</dcterms:modified>
  <cp:revision>255</cp:revision>
  <dc:subject/>
  <dc:title>1.264 Lecture 5</dc:title>
</cp:coreProperties>
</file>