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C6D3-D585-424B-BA08-1A0F38931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CE79-0592-4E9C-957A-E70E9EE303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058C-536D-437A-9D98-B45458367AE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DFC2-2A67-440F-9BA1-54DC3B5C02D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9765-F90A-4F9D-AD04-AB208299450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54DD-1F1A-4E4B-868C-665DF9D9DDA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8444-2716-42AE-A6AC-86991E021CB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FAAC-843E-4E18-BF76-165288A0AB0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830F-84B7-49AE-9F20-D48E5D7FD2A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7EC5-92FE-4D9A-B0AD-F2DE94DE46D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3D2C-937A-4679-BD90-C3FB2E71F6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190-1DA2-420D-BDF0-875543F9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50B-205B-4488-BF1B-BC0A2CDA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8B0-DB62-43BE-A8EE-3F99F111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88C-5CB0-4C24-B9C3-EA50F4E8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851-9C89-469F-A8EB-89D47178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D05-509E-4A9A-8791-CFDAA609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11D-622D-4DBD-BD02-F712786B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877-1408-441F-84AE-6A7762B6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BD8-0D0B-4DAD-BA7D-071A1F3C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95D-7C8E-4599-9E7A-E028BB93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9D4-5F66-45A8-8150-A2BF25B8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4AC-FCD5-4715-BE75-8BAF46B6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DFC3-A9E5-4627-A85A-94374175C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7240" y="5719680"/>
            <a:ext cx="50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-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B development tools (UML, Visual Studio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following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aS: infrastructu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aS: platform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aS: softwa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atabase development tools (UML…) softw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, or perhaps I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these two Web sites to get prices: (What kind of clou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ws.amazon.com/ec2/  Estimat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-dem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rv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 to “EC2 Pricing”, “AWS Simple Monthly Calculator”, U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/Web SQL Svr, 50% utilization, m3.xlarge (15 GB memory, 13 CPU units)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 demand and then re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: 1000GB standard, 100 iops, 100GB-mo snap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: 1,000GB/month inter-region in and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d: Medium util, 1 yr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windowsazure.com. Pricing, “Calculator”, “Shared” ta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y as you g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2 month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site, 150GB database (less than Amazon), 1000GB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nce at developers.google.com/appengin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“Quotas and pricing”-&gt;”Pric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ogle costs require more work to estimat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about comparing to running your own data cent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, software, space, security, staff to manage,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zon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demand: $488/month (was $831/month last year, for l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d: $1100 + $286/month (was $1837 + $590/mon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: $355 PAYG, $275 12 mos (was $943/month la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g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am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 growing exponenti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, flexibility, higher quality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vendors offer cloud storage, computing, office applications, enterprise applications (CRM, SCM, ER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 as a service (SaaS) is cloud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are infrastructure and platform as a service (IaaS, Pa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computing is heavily based on Service Oriented Architectures (SO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Web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HTTP and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exchange data between databases using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and public clouds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 servers and applications will 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architecture provides a cost estimate for the software and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required early in a project. Use first spiral to develo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imate staff and software costs from lecture 3,4 approa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ex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trip plan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real tim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far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vehicl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transit dispatch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a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ll examples, architecture generates budg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: from function points, person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: from TPC and cloud computing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: from bandwidth and technolog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ics (database server as an exa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oughpu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/O operations/second, data transfer rate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throughput is low, more servers used than really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seek time (seconds), response time (seco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latency is high, users have slow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iliz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centage of data transfer rate, disk capacity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vg utilization &gt; 60%, your systems will crawl on bus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erage server utilization  ~15-20% in traditional data ce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data transf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bit/sec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2.5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0.0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,000 bits/sec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0.007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arable units when assess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bits (b)=  1 byte 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B may be 1,000,000 B or 1,024,000 B.  GB, TB discrepancies high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Database server cost, perform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on to www.tpc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C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“system” for top performing choice and open executive summary as pdf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ick the 2</a:t>
            </a:r>
            <a:r>
              <a:rPr b="1" lang="en-US" sz="20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one: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configuration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Note the 50% disc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hardware cost? How many us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How many are there? Total stora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What does the software cost? (This one is unusua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 How much mem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nore the client hardware, which is just for th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H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100GB results, same items as TPC-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ts are queries per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with TPC-C performance, which is transactions per minute. Why the differe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C: IBM x3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 ~$30,000.  Users: ~1,000,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 ~$26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~$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115, holding 40,0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8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768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 ~0.1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H: Lenovo ThinkServer RD630 (100 GB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~$13,500.   Users: a few (5-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(not specified, but most of 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8, holding 2,4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16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64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response times: 0.3-12.7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: 420,000 QpH= 7,000 Q/min(H) vs 1,300,000 q/min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 transaction is about 1,000,000 times the cost of a C trans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s are faster/cheaper n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00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tpmC, $58/tpmC, 6,000 users, 5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13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600,000 tpmC, $0.47/tpmC, 1,000,000 users, 0.1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,200,000 total transactions/minute in bench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800,000 total transactions/minute actual 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% utilization max for 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ystem is less highly tuned than benchmark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 for future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x of transactions changing: more status/inquiry with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erformance 20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,000,000 tpmC, $1/tpmC,  24,00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 vs traditional o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zon, Microsoft Azure, Google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application/databas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data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your application and place it in the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by the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fo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C-E-H systems that you purchase and host in-house or in a host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 servers from Dell, etc. that you configure for latency, throughput, utilization, etc. using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types of clou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 own operating system, database, ap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flexible, mo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Rac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t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operat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provides OS, database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mazon, Microsoft, Goo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no app of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the third party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salesforc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st flexible, lea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 exampl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 On-Demand APT (package carrier T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Network (logis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1-21T16:29:48Z</cp:lastPrinted>
  <dcterms:modified xsi:type="dcterms:W3CDTF">2013-11-23T01:07:07Z</dcterms:modified>
  <cp:revision>254</cp:revision>
  <dc:subject/>
  <dc:title>1.264 Lecture 5</dc:title>
</cp:coreProperties>
</file>