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1C4B7-7150-4313-8001-B743F872E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6E8AF-8C72-4044-8EAB-38093B72D9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A971B-835C-4230-A00C-15AE0E56AD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B372B-4DC4-4346-82E2-A7F55AF96F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8DBA9-733A-494F-8F71-8FB0DB20BD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FD077-02AD-4B7C-B1E3-CE4F8A623D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1D2A2-BE7F-4DE2-B6CE-4F3553A96C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FDA86-2D83-4B57-9009-925AB945F9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242E9-9DEE-4EBB-94F2-F8F295C5A0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9AB73-D050-4769-9717-F9B426F066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A0610-4CF0-41A5-B799-6B742FEF32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20DCD-814E-4A77-81F8-02D7825883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141-A01B-4586-8CA6-641FF190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BD8-99E8-43CC-8385-C0ABB946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FF20-92CD-4DBE-8512-62F76252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1F26-AAB6-4749-B28E-F385C8FC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A44-5D11-45C4-9828-4BC40513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5B9-D560-4755-86D5-CD510E08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114-2F4E-451D-89FE-F71825A0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8A0-33D7-419F-A410-45E8201C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2A4E-41DF-45A8-B8BF-C1580079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2CE-5500-4AF2-BC52-57BF759C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C787-F57C-4639-9C1F-470B6CDC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751-63CB-4AB8-87F8-FE593B74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C331-D1F5-4603-A84A-225E9A7DF6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, co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97720" y="5719680"/>
            <a:ext cx="64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 (case study on Stellar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wse catalog, with many parameters/arguments to narrow by product typ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order, with parameters on carriers/modes, split/backorder preferenc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cel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/payment hi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ting users find the services, making sure they are almost always running, transactions/rollback, performance, security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440" y="685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 XML documents as request and response between Web servers and/or clients using HTTP. (SO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text-based, and avoid differences in Web server hardware, operating system, programming languag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validated using XSD (XSchema Definition) (or DT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discovered through WSDL regis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they are called and what they return is defined in WS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used as data sources (ObjectDataSource) from remote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relatively easy to imp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 data to be liberated from databases and sh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develop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SON (JavaScript Object Notation) is being substituted for XML: less verbose.  Still standards-based, text-b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CF (Windows Communications Framework) supersedes simple Web services (.asmx), more flexible (Web 2.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Description Language: WSD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1.1 (current version) contai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ption of XML data (types) that can be passed in &lt;types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of messages in &lt;message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 and response 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ion and pairing of message passing in &lt;portType&gt;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est-only, request-response, response-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encoding in &lt;binding&gt; element (literal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tion where service is offered in &lt;service&gt;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ay example in 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Bay deploys 300 features per quarter and 600,000 lines of code per qu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2.0 in limite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ocu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8600" y="1468440"/>
            <a:ext cx="3935520" cy="392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19076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 rate: 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types defined w/ X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: RateReques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s,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tType: matches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est/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put message: RateRequest(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message: RateRespons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d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: request-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e: Truck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ress: http://www.aaa.com/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400480" y="2033640"/>
            <a:ext cx="4343400" cy="4010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4809600" y="6477120"/>
            <a:ext cx="419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25480" y="1981080"/>
            <a:ext cx="353052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te WS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sh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ov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stand Web service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oke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Registering a Web service on a Web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Web site from lecture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the Web service o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ght click Web site name in Solution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dd Service Re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Discover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link to ProductServic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efault namespace (ServiceRefere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reference placed in f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WSDL file, which describes the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Using a Web service on a cli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use/consume the service on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li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Parts.aspx page (File-&gt;New File-&gt; Web Fo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ke sure Parts.aspx is in the main folder of the Web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g ObjectDataSource from toolkit onto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data source: select  Product Service, and GetProducts()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 default value=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op Gridview control on page, set its data source.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ually have a vendor GridView and use the selected field instead of a default value—this is a shortcut ex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customer would normally build this Parts.aspx page on its Web site. Not y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 would drop several ObjectDataSources on the page, one for each of the parts/products manufacturers/distributors (including yours) that it uses. It would then have a query or logic to choose the vendor based on availability, price, quality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istries: UDDI, eb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DDI: Universal Description, Discovery and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-based registry for businesses and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DI contains information about the business that publishes Web services, and the Web services themsel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: http://soapclient.com/uddisearch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XML: Competing standard (IS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 organizations or industries typically use private regis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ries provided by MS Biztalk, IBM WebSphere, Software AG WebMethods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the Web services you would include in your homework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would be registered and available for your customers to use in their systems that check your catalog, place orders, check status, and make pay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, if not all, will essentially be database qu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problems would you anticipate with these Web servi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6T00:44:01Z</dcterms:modified>
  <cp:revision>285</cp:revision>
  <dc:subject/>
  <dc:title>1.264 Lecture 5</dc:title>
</cp:coreProperties>
</file>