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8DCC290-DC23-439B-BE0A-EE3E7BB8C739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71059B7-F3B7-47BD-B210-20CECACE5B8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5706-03E6-47A2-9699-ADEF4D0E9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4BC1-15DA-4877-A481-8219859D4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F964-8208-4207-82D3-7FD7C2CE9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7203-26BD-4DCD-A638-29BD7A13E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599D-F24C-41B0-BEE6-DC99EFF88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FEED-D933-4C47-841F-05F6D394D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B093-D248-44B7-9543-DF99A1296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64E6-E7F5-46B3-9CF6-14B30360E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A069-37F4-45D6-A675-F1A6C5899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D361-D2D4-43C5-B0F3-E817DC2F3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D349-4B08-48DC-8A03-040715C33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A8EA-B31C-4730-BB1A-57A52C277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BD6-7A8E-4F29-A239-C8A7397064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 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ctober 21, 20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x Flows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0648-0611-4D50-962A-01D59350CFC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97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9955-3C21-4817-B5F2-5BD7B5ADA4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221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C281-B1E6-4296-A3FF-D46AD3DA91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3" name="Group 35"/>
          <p:cNvGrpSpPr/>
          <p:nvPr/>
        </p:nvGrpSpPr>
        <p:grpSpPr>
          <a:xfrm>
            <a:off x="1523880" y="1127160"/>
            <a:ext cx="4211640" cy="2929320"/>
            <a:chOff x="1523880" y="1127160"/>
            <a:chExt cx="4211640" cy="2929320"/>
          </a:xfrm>
        </p:grpSpPr>
        <p:sp>
          <p:nvSpPr>
            <p:cNvPr id="244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H="1">
              <a:off x="2180520" y="18129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438280" y="11430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4448160" y="112716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69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C21A-940D-4A77-B32F-83279656C9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D49B-0077-41C0-8466-79CB0EDE6A4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preflow x is called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f e(j) &lt; Δ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j ≠ s,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the preflow after the preprocess step is Δ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a preflow is 1-maximum and if d(s) = n, then the preflow is a maximum 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 takes a preflow x that is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maximum and outputs a preflow that is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5105520" y="1523880"/>
            <a:ext cx="3809880" cy="4432320"/>
            <a:chOff x="5105520" y="1523880"/>
            <a:chExt cx="3809880" cy="4432320"/>
          </a:xfrm>
        </p:grpSpPr>
        <p:sp>
          <p:nvSpPr>
            <p:cNvPr id="283" name="Rectangle 5"/>
            <p:cNvSpPr/>
            <p:nvPr/>
          </p:nvSpPr>
          <p:spPr>
            <a:xfrm>
              <a:off x="5105520" y="1523880"/>
              <a:ext cx="3809880" cy="443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Box 6"/>
            <p:cNvSpPr/>
            <p:nvPr/>
          </p:nvSpPr>
          <p:spPr>
            <a:xfrm>
              <a:off x="5334120" y="16873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cess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5105520" y="2590560"/>
              <a:ext cx="37339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where K = ⎡ log U 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reproc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nvert the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preflow x into a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flow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3213-430C-431A-A4B1-A8CD9A9A1D2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 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 nod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(i) ≥ 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e i is not above a gap  If a node i is above a gap, then there is no path from i to t in G(x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2819520"/>
            <a:ext cx="579096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routi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G(x) has a Δ/2-active node j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 Δ/2-active nod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i with minimum distance lab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ush/relabel(i) where the amount pushed in (i, j)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n (Δ/2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291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2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293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FAF0-3AB6-43A5-AF31-3E5E01658C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mmas about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roughout ImproveApprox, e(j) &lt; Δ for all active nodes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f we push in (i, j), then e(j) &lt; Δ/2 before the push, and the amount pushed is at most Δ/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309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311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Rectangle 3"/>
          <p:cNvSpPr/>
          <p:nvPr/>
        </p:nvSpPr>
        <p:spPr>
          <a:xfrm>
            <a:off x="380880" y="358128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non-saturating push sends exactly Δ/2 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amount push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 j) is  m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/2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Excess Scaling Algorithm finds a maximum flow in O(n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U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e have already shown the following in the analysis of preflow-pus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terminates, it terminates with a max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in all steps other than nonsaturating pushes is O(nm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remains to be proved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Δ/2-active node with lowest distance label can be selected in O(1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51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nonsaturating pushes is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.   For this we will rely on a new potenti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92CD-7265-48DA-B01C-A37CA46F2BC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DEB5-50E8-4B55-BE8F-031B9D27059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33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42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Oval 47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Oval 61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95480" y="1828800"/>
          <a:ext cx="990720" cy="5029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50"/>
          <p:cNvGrpSpPr/>
          <p:nvPr/>
        </p:nvGrpSpPr>
        <p:grpSpPr>
          <a:xfrm>
            <a:off x="3962160" y="4648320"/>
            <a:ext cx="1905120" cy="990360"/>
            <a:chOff x="3962160" y="4648320"/>
            <a:chExt cx="1905120" cy="990360"/>
          </a:xfrm>
        </p:grpSpPr>
        <p:sp>
          <p:nvSpPr>
            <p:cNvPr id="368" name="Oval 48"/>
            <p:cNvSpPr/>
            <p:nvPr/>
          </p:nvSpPr>
          <p:spPr>
            <a:xfrm>
              <a:off x="449568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57"/>
            <p:cNvSpPr/>
            <p:nvPr/>
          </p:nvSpPr>
          <p:spPr>
            <a:xfrm>
              <a:off x="449568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60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1" name="Straight Arrow Connector 94"/>
            <p:cNvCxnSpPr/>
            <p:nvPr/>
          </p:nvCxnSpPr>
          <p:spPr>
            <a:xfrm>
              <a:off x="396216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2" name="Straight Arrow Connector 100"/>
            <p:cNvCxnSpPr/>
            <p:nvPr/>
          </p:nvCxnSpPr>
          <p:spPr>
            <a:xfrm>
              <a:off x="495252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3" name="Straight Arrow Connector 101"/>
            <p:cNvCxnSpPr/>
            <p:nvPr/>
          </p:nvCxnSpPr>
          <p:spPr>
            <a:xfrm>
              <a:off x="3962160" y="548640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374" name="TextBox 102"/>
          <p:cNvSpPr/>
          <p:nvPr/>
        </p:nvSpPr>
        <p:spPr>
          <a:xfrm>
            <a:off x="21337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’s more challenging than one might gu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Box 103"/>
          <p:cNvSpPr/>
          <p:nvPr/>
        </p:nvSpPr>
        <p:spPr>
          <a:xfrm>
            <a:off x="4495680" y="1981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is an array of size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Box 104"/>
          <p:cNvSpPr/>
          <p:nvPr/>
        </p:nvSpPr>
        <p:spPr>
          <a:xfrm>
            <a:off x="44956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(k) points to a linked list of nodes i with d(i) = k, and e(k) ≥ Δ/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B067-0374-40B5-AF89-C29A391BD0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80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3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6" name="TextBox 50"/>
          <p:cNvSpPr/>
          <p:nvPr/>
        </p:nvSpPr>
        <p:spPr>
          <a:xfrm>
            <a:off x="1981080" y="1828800"/>
            <a:ext cx="6934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l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the push at the k-th iteration created a Δ-active node at level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1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It takes O(1) 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7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TextBox 18"/>
          <p:cNvSpPr/>
          <p:nvPr/>
        </p:nvSpPr>
        <p:spPr>
          <a:xfrm>
            <a:off x="4038480" y="3657600"/>
            <a:ext cx="4496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ew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s a potential function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–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Then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-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962520" y="5029200"/>
            <a:ext cx="4267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Initial Potential +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+  Gains in potential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-  Final potential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981080" y="1066680"/>
            <a:ext cx="65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intain a pointer to LIST.   Let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be the index of LIST pointed to at an iteration k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Box 19"/>
          <p:cNvSpPr/>
          <p:nvPr/>
        </p:nvSpPr>
        <p:spPr>
          <a:xfrm>
            <a:off x="1981080" y="289548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g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it takes O(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-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ADAE-9C05-4D00-BEAF-A96C2A29FEE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unc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cess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 non-saturating push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U = 1 + max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 U) runni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of that Highest Level Preflow Push u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n-saturating push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A837-9069-4D95-B088-77CA1F470C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95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98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9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0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2" name="TextBox 59"/>
          <p:cNvSpPr/>
          <p:nvPr/>
        </p:nvSpPr>
        <p:spPr>
          <a:xfrm>
            <a:off x="2057400" y="2819520"/>
            <a:ext cx="6553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ss in Ψ is exactly 1, and it occurs following a push.   So, the losses in Ψ are at most the number of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057400" y="2057400"/>
            <a:ext cx="655308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ins in Ψ =  Final Ψ  +  Losses in Ψ – Initial Ψ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191120" y="4343400"/>
            <a:ext cx="4267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ins in Ψ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n +  number of pushes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057400" y="1066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Gains in Ψ + Losses in Ψ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2133720" y="5638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n + number of pushe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4E8-14DA-4A63-BB0B-FCA58881E1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0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41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3" name="Text Box 62"/>
          <p:cNvSpPr/>
          <p:nvPr/>
        </p:nvSpPr>
        <p:spPr>
          <a:xfrm>
            <a:off x="3200400" y="990720"/>
            <a:ext cx="33526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(j) d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09680" y="1828800"/>
          <a:ext cx="5867640" cy="1486080"/>
        </p:xfrm>
        <a:graphic>
          <a:graphicData uri="http://schemas.openxmlformats.org/drawingml/2006/table">
            <a:tbl>
              <a:tblPr/>
              <a:tblGrid>
                <a:gridCol w="1219320"/>
                <a:gridCol w="533520"/>
                <a:gridCol w="558720"/>
                <a:gridCol w="507960"/>
                <a:gridCol w="533520"/>
                <a:gridCol w="609480"/>
                <a:gridCol w="609480"/>
                <a:gridCol w="609840"/>
                <a:gridCol w="685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d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165"/>
          <p:cNvSpPr/>
          <p:nvPr/>
        </p:nvSpPr>
        <p:spPr>
          <a:xfrm>
            <a:off x="2895480" y="3581280"/>
            <a:ext cx="33530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384 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166"/>
          <p:cNvSpPr/>
          <p:nvPr/>
        </p:nvSpPr>
        <p:spPr>
          <a:xfrm>
            <a:off x="2895480" y="4267080"/>
            <a:ext cx="518184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is the “gravitational potential” measured in un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895480" y="5478480"/>
            <a:ext cx="52578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Φ  =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762D-C7EF-4501-AB6D-38A45818E9F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push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862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ush decreases 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90720" y="3809880"/>
            <a:ext cx="80769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+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-  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304920" y="5715000"/>
            <a:ext cx="8076960" cy="103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nsat push at step k sends Δ/2 units of flow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 this case, 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½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304920" y="5105520"/>
            <a:ext cx="220968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+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228600" y="30481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28600" y="1752480"/>
            <a:ext cx="38862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α units of flow are sent in (i, j) at the k-th iteratio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724280" y="1066680"/>
            <a:ext cx="4114800" cy="2867760"/>
            <a:chOff x="4724280" y="1066680"/>
            <a:chExt cx="4114800" cy="2867760"/>
          </a:xfrm>
        </p:grpSpPr>
        <p:sp>
          <p:nvSpPr>
            <p:cNvPr id="457" name="Line 7"/>
            <p:cNvSpPr/>
            <p:nvPr/>
          </p:nvSpPr>
          <p:spPr>
            <a:xfrm>
              <a:off x="510516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87656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487656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4724280" y="2743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5257440" y="1066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705360" y="27432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08660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Oval 8"/>
            <p:cNvSpPr/>
            <p:nvPr/>
          </p:nvSpPr>
          <p:spPr>
            <a:xfrm>
              <a:off x="68580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685800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5257440" y="2209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391160" y="10666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-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7391160" y="205740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2974680" y="4952880"/>
            <a:ext cx="5493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-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+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Δ    =  - α / Δ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4920" y="4572000"/>
            <a:ext cx="167616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AC2B-FB1E-4EE6-B20F-207A2FF4A8E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relabel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relabel increases Φ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152280" y="3962520"/>
            <a:ext cx="75438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w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152280" y="6172200"/>
            <a:ext cx="7391520" cy="532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(j) by w, increases Φ by at most 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228600" y="1905120"/>
            <a:ext cx="42670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28600" y="281952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=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+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4952880" y="2362320"/>
            <a:ext cx="3810240" cy="1371600"/>
            <a:chOff x="4952880" y="2362320"/>
            <a:chExt cx="3810240" cy="1371600"/>
          </a:xfrm>
        </p:grpSpPr>
        <p:sp>
          <p:nvSpPr>
            <p:cNvPr id="479" name="Rectangle 32"/>
            <p:cNvSpPr/>
            <p:nvPr/>
          </p:nvSpPr>
          <p:spPr>
            <a:xfrm>
              <a:off x="4952880" y="236232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Rectangle 17"/>
            <p:cNvSpPr/>
            <p:nvPr/>
          </p:nvSpPr>
          <p:spPr>
            <a:xfrm>
              <a:off x="5943600" y="3276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476760" y="25146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858000" y="2438280"/>
              <a:ext cx="1752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14"/>
            <p:cNvSpPr/>
            <p:nvPr/>
          </p:nvSpPr>
          <p:spPr>
            <a:xfrm>
              <a:off x="518148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4" name="Rectangle 31"/>
          <p:cNvSpPr/>
          <p:nvPr/>
        </p:nvSpPr>
        <p:spPr>
          <a:xfrm>
            <a:off x="2301840" y="5181480"/>
            <a:ext cx="2718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w /Δ  ≤ 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5" name="Group 36"/>
          <p:cNvGrpSpPr/>
          <p:nvPr/>
        </p:nvGrpSpPr>
        <p:grpSpPr>
          <a:xfrm>
            <a:off x="4876920" y="990720"/>
            <a:ext cx="3809880" cy="1066680"/>
            <a:chOff x="4876920" y="990720"/>
            <a:chExt cx="3809880" cy="1066680"/>
          </a:xfrm>
        </p:grpSpPr>
        <p:sp>
          <p:nvSpPr>
            <p:cNvPr id="486" name="Rectangle 34"/>
            <p:cNvSpPr/>
            <p:nvPr/>
          </p:nvSpPr>
          <p:spPr>
            <a:xfrm>
              <a:off x="4876920" y="990720"/>
              <a:ext cx="3809880" cy="1066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6477120" y="1111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5867280" y="16448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6858000" y="1111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7280" y="1066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457200" y="437184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                          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+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     - 0  = O(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)  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62"/>
          <p:cNvSpPr/>
          <p:nvPr/>
        </p:nvSpPr>
        <p:spPr>
          <a:xfrm>
            <a:off x="2133720" y="12193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57200" y="541800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total number of nonsaturating pushes over all scaling phases is O(n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log U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5E15-13FA-4349-BB30-2FBCEC57313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457200" y="3324240"/>
            <a:ext cx="84582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Losses in Φ   = 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57200" y="227808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 = number of nonsat pushes in Δ-scaling phase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ou are entitled to receive something if you bring a raccoon’s head to the town hall in Henniker, NH. What i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1980, a Las Vegas hospital suspended workers because of what they were betting 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betting when patients would di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did Christians begin celebrating December 25 as Jesus Christ’s birth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0 C.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0BFA-488C-4504-A2B1-E065D0D383A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4"/>
          <p:cNvSpPr/>
          <p:nvPr/>
        </p:nvSpPr>
        <p:spPr>
          <a:xfrm>
            <a:off x="152280" y="1000080"/>
            <a:ext cx="5943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ERF ball is a popular children’s toy.  What does NERF stand f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hing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dvertising displays that include a clock, what time is most frequently given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:1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abe Ruth kept something under his hat to keep cool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 cabbage leaf.  He changed it every 2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inning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228600" y="1143000"/>
            <a:ext cx="60199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4600" cy="18158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6248520" y="990720"/>
            <a:ext cx="2743200" cy="556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E427-F4CC-476E-BBF9-57E251AC676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ighest Level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est level push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special case of the Goldberg-Tarjan preflow push algorithm in which pushes are from an active node with maximum distance la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unning time of the highest level pushing algorithm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Selecting an active node with highest distance level is carried out similarly to selecting a Δ-active node at the lowest le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mains to prove that the number of non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alysis is involved, but it is much easier than the analysis in the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42C-3E49-4431-863A-87A388A44B1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ha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560" y="990720"/>
            <a:ext cx="8381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s of a consecutive sequence of pushes from nodes at the sa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number of phas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8A1-C4E6-4E59-A076-14688197553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914400" y="3352680"/>
            <a:ext cx="0" cy="3124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685800" y="41148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49"/>
          <p:cNvSpPr/>
          <p:nvPr/>
        </p:nvSpPr>
        <p:spPr>
          <a:xfrm>
            <a:off x="685800" y="35812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1522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58"/>
          <p:cNvSpPr/>
          <p:nvPr/>
        </p:nvSpPr>
        <p:spPr>
          <a:xfrm>
            <a:off x="19051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1447920" y="33526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60"/>
          <p:cNvSpPr/>
          <p:nvPr/>
        </p:nvSpPr>
        <p:spPr>
          <a:xfrm>
            <a:off x="1447920" y="39625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21337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23623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58"/>
          <p:cNvSpPr/>
          <p:nvPr/>
        </p:nvSpPr>
        <p:spPr>
          <a:xfrm>
            <a:off x="25909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2971800" y="3581280"/>
            <a:ext cx="380880" cy="76320"/>
            <a:chOff x="2971800" y="3581280"/>
            <a:chExt cx="380880" cy="76320"/>
          </a:xfrm>
        </p:grpSpPr>
        <p:sp>
          <p:nvSpPr>
            <p:cNvPr id="534" name="Oval 58"/>
            <p:cNvSpPr/>
            <p:nvPr/>
          </p:nvSpPr>
          <p:spPr>
            <a:xfrm>
              <a:off x="297180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>
              <a:off x="312408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Oval 58"/>
            <p:cNvSpPr/>
            <p:nvPr/>
          </p:nvSpPr>
          <p:spPr>
            <a:xfrm>
              <a:off x="327672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Oval 58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Box 28"/>
          <p:cNvSpPr/>
          <p:nvPr/>
        </p:nvSpPr>
        <p:spPr>
          <a:xfrm>
            <a:off x="304920" y="2286000"/>
            <a:ext cx="8381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Proof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Let Γ be the highest level of an active node.  It is a potential function.  A phase ends  in one of two ways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3962520" y="3048120"/>
            <a:ext cx="4724280" cy="16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(because of a relabel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decreases (no more active nodes at level w 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1905120" y="4648320"/>
            <a:ext cx="678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at most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.  (bound on relabel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5029200"/>
            <a:ext cx="678168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es in Γ  =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+ Increases in Γ  - 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≤  n        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– 0   =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2286000" y="6095880"/>
            <a:ext cx="6400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 there are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) pha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highest level pushing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DC38-89F1-4E96-997E-6E516992EE1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447920" y="1523880"/>
            <a:ext cx="2514600" cy="1600200"/>
            <a:chOff x="1447920" y="1523880"/>
            <a:chExt cx="2514600" cy="1600200"/>
          </a:xfrm>
        </p:grpSpPr>
        <p:sp>
          <p:nvSpPr>
            <p:cNvPr id="573" name="Rectangle 46"/>
            <p:cNvSpPr/>
            <p:nvPr/>
          </p:nvSpPr>
          <p:spPr>
            <a:xfrm>
              <a:off x="1447920" y="15238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Oval 60"/>
            <p:cNvSpPr/>
            <p:nvPr/>
          </p:nvSpPr>
          <p:spPr>
            <a:xfrm>
              <a:off x="1676520" y="1752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752480" y="24382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2286000" y="1752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55"/>
            <p:cNvSpPr/>
            <p:nvPr/>
          </p:nvSpPr>
          <p:spPr>
            <a:xfrm>
              <a:off x="2286000" y="23619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8" name="Text Box 62"/>
          <p:cNvSpPr/>
          <p:nvPr/>
        </p:nvSpPr>
        <p:spPr>
          <a:xfrm>
            <a:off x="4343400" y="274320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343400" y="152388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des 7, 8, 9, and 11 ar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62"/>
          <p:cNvSpPr/>
          <p:nvPr/>
        </p:nvSpPr>
        <p:spPr>
          <a:xfrm>
            <a:off x="4343400" y="4038480"/>
            <a:ext cx="4343400" cy="101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.g., Φ(6) = 0, Φ(10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3) = 3,  Φ(2)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62"/>
          <p:cNvSpPr/>
          <p:nvPr/>
        </p:nvSpPr>
        <p:spPr>
          <a:xfrm>
            <a:off x="4343400" y="5334120"/>
            <a:ext cx="43434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(j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343400" y="6019920"/>
            <a:ext cx="43434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0 + 1 +3 + 4×4 =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ling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7056-2AB0-49B0-9A94-895652DCED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4724280" y="1523880"/>
            <a:ext cx="4114800" cy="4114800"/>
            <a:chOff x="4724280" y="1523880"/>
            <a:chExt cx="4114800" cy="4114800"/>
          </a:xfrm>
        </p:grpSpPr>
        <p:sp>
          <p:nvSpPr>
            <p:cNvPr id="97" name="Rectangle 7"/>
            <p:cNvSpPr/>
            <p:nvPr/>
          </p:nvSpPr>
          <p:spPr>
            <a:xfrm>
              <a:off x="4724280" y="1523880"/>
              <a:ext cx="4038840" cy="4114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TextBox 4"/>
            <p:cNvSpPr/>
            <p:nvPr/>
          </p:nvSpPr>
          <p:spPr>
            <a:xfrm>
              <a:off x="5105160" y="167616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4952880" y="251424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for some selecte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value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termine a Δ-optim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solution x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0" y="1041480"/>
            <a:ext cx="42670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 concep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opt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Δ is some positive integer, and where a 1-optimal solution is optimal for the original probl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that efficiently determines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ptimum solution wh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some (possibly large)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-Appr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ransforms a Δ-optimal solution into a Δ/2-optimal solution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 node becoming activ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4EB9-0797-4A73-A2E1-03C5E4743F7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Group 47"/>
          <p:cNvGrpSpPr/>
          <p:nvPr/>
        </p:nvGrpSpPr>
        <p:grpSpPr>
          <a:xfrm>
            <a:off x="1219320" y="1295280"/>
            <a:ext cx="2514600" cy="1600200"/>
            <a:chOff x="1219320" y="1295280"/>
            <a:chExt cx="2514600" cy="1600200"/>
          </a:xfrm>
        </p:grpSpPr>
        <p:sp>
          <p:nvSpPr>
            <p:cNvPr id="614" name="Rectangle 46"/>
            <p:cNvSpPr/>
            <p:nvPr/>
          </p:nvSpPr>
          <p:spPr>
            <a:xfrm>
              <a:off x="1219320" y="12952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Oval 60"/>
            <p:cNvSpPr/>
            <p:nvPr/>
          </p:nvSpPr>
          <p:spPr>
            <a:xfrm>
              <a:off x="1447920" y="1523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Oval 58"/>
            <p:cNvSpPr/>
            <p:nvPr/>
          </p:nvSpPr>
          <p:spPr>
            <a:xfrm>
              <a:off x="1523880" y="22096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Text Box 55"/>
            <p:cNvSpPr/>
            <p:nvPr/>
          </p:nvSpPr>
          <p:spPr>
            <a:xfrm>
              <a:off x="20574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Text Box 55"/>
            <p:cNvSpPr/>
            <p:nvPr/>
          </p:nvSpPr>
          <p:spPr>
            <a:xfrm>
              <a:off x="2057400" y="2133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9" name="Text Box 62"/>
          <p:cNvSpPr/>
          <p:nvPr/>
        </p:nvSpPr>
        <p:spPr>
          <a:xfrm>
            <a:off x="4114800" y="2743200"/>
            <a:ext cx="4724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ncreases by 1 if d(j) ≤ d(i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62"/>
          <p:cNvSpPr/>
          <p:nvPr/>
        </p:nvSpPr>
        <p:spPr>
          <a:xfrm>
            <a:off x="4114800" y="1295280"/>
            <a:ext cx="4724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that node i is mad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4114800" y="3809880"/>
            <a:ext cx="4724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if a node is made active and if there are no other changes in potential, then Φ increases by less than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2004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possible Φ before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Group 57"/>
          <p:cNvGrpSpPr/>
          <p:nvPr/>
        </p:nvGrpSpPr>
        <p:grpSpPr>
          <a:xfrm>
            <a:off x="3581280" y="3200400"/>
            <a:ext cx="1600200" cy="1701360"/>
            <a:chOff x="3581280" y="3200400"/>
            <a:chExt cx="1600200" cy="1701360"/>
          </a:xfrm>
        </p:grpSpPr>
        <p:sp>
          <p:nvSpPr>
            <p:cNvPr id="627" name="Line 7"/>
            <p:cNvSpPr/>
            <p:nvPr/>
          </p:nvSpPr>
          <p:spPr>
            <a:xfrm flipH="1">
              <a:off x="3733560" y="350496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581280" y="4496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58128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885840" y="32144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962160" y="44960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2" name="Rectangle 19"/>
          <p:cNvSpPr/>
          <p:nvPr/>
        </p:nvSpPr>
        <p:spPr>
          <a:xfrm>
            <a:off x="3733920" y="5943600"/>
            <a:ext cx="434340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4191120" y="236232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457200" y="1905120"/>
            <a:ext cx="792468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1295280" y="2362320"/>
            <a:ext cx="2743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1722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possible Φ after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3" name="Group 59"/>
          <p:cNvGrpSpPr/>
          <p:nvPr/>
        </p:nvGrpSpPr>
        <p:grpSpPr>
          <a:xfrm>
            <a:off x="6553080" y="3124080"/>
            <a:ext cx="1981440" cy="1701360"/>
            <a:chOff x="6553080" y="3124080"/>
            <a:chExt cx="1981440" cy="1701360"/>
          </a:xfrm>
        </p:grpSpPr>
        <p:sp>
          <p:nvSpPr>
            <p:cNvPr id="664" name="Line 7"/>
            <p:cNvSpPr/>
            <p:nvPr/>
          </p:nvSpPr>
          <p:spPr>
            <a:xfrm flipH="1">
              <a:off x="6705360" y="342864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6553080" y="44197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6553080" y="3124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6857640" y="31381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6933960" y="44197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45E9-A484-41FE-B484-6CF5C77D947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-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673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" name="Rectangle 19"/>
          <p:cNvSpPr/>
          <p:nvPr/>
        </p:nvSpPr>
        <p:spPr>
          <a:xfrm>
            <a:off x="4114800" y="54864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≤  - | S 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Oval 60"/>
          <p:cNvSpPr/>
          <p:nvPr/>
        </p:nvSpPr>
        <p:spPr>
          <a:xfrm>
            <a:off x="1447920" y="3048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0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691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3" name="Rectangle 3"/>
          <p:cNvSpPr/>
          <p:nvPr/>
        </p:nvSpPr>
        <p:spPr>
          <a:xfrm>
            <a:off x="457200" y="1981080"/>
            <a:ext cx="79246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 be the set of nodes at level d(u) =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Oval 60"/>
          <p:cNvSpPr/>
          <p:nvPr/>
        </p:nvSpPr>
        <p:spPr>
          <a:xfrm>
            <a:off x="1447920" y="3657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58"/>
          <p:cNvSpPr/>
          <p:nvPr/>
        </p:nvSpPr>
        <p:spPr>
          <a:xfrm>
            <a:off x="21337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8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2971800" y="3276720"/>
            <a:ext cx="380880" cy="75960"/>
            <a:chOff x="2971800" y="3276720"/>
            <a:chExt cx="380880" cy="75960"/>
          </a:xfrm>
        </p:grpSpPr>
        <p:sp>
          <p:nvSpPr>
            <p:cNvPr id="699" name="Oval 58"/>
            <p:cNvSpPr/>
            <p:nvPr/>
          </p:nvSpPr>
          <p:spPr>
            <a:xfrm>
              <a:off x="297180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Oval 58"/>
            <p:cNvSpPr/>
            <p:nvPr/>
          </p:nvSpPr>
          <p:spPr>
            <a:xfrm>
              <a:off x="312408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327672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2" name="Oval 58"/>
          <p:cNvSpPr/>
          <p:nvPr/>
        </p:nvSpPr>
        <p:spPr>
          <a:xfrm>
            <a:off x="35053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2286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4114800" y="373392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-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4114800" y="45720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∉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ACA8-DC9D-4848-99C0-6B1129E7100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relabel of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710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2" name="Rectangle 19"/>
          <p:cNvSpPr/>
          <p:nvPr/>
        </p:nvSpPr>
        <p:spPr>
          <a:xfrm>
            <a:off x="4114800" y="518148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35"/>
          <p:cNvSpPr/>
          <p:nvPr/>
        </p:nvSpPr>
        <p:spPr>
          <a:xfrm>
            <a:off x="152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Text Box 56"/>
          <p:cNvSpPr/>
          <p:nvPr/>
        </p:nvSpPr>
        <p:spPr>
          <a:xfrm>
            <a:off x="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Oval 58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6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727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Oval 58"/>
          <p:cNvSpPr/>
          <p:nvPr/>
        </p:nvSpPr>
        <p:spPr>
          <a:xfrm>
            <a:off x="16002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58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8"/>
          <p:cNvSpPr/>
          <p:nvPr/>
        </p:nvSpPr>
        <p:spPr>
          <a:xfrm>
            <a:off x="20574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2438280" y="3809880"/>
            <a:ext cx="380880" cy="76320"/>
            <a:chOff x="2438280" y="3809880"/>
            <a:chExt cx="380880" cy="76320"/>
          </a:xfrm>
        </p:grpSpPr>
        <p:sp>
          <p:nvSpPr>
            <p:cNvPr id="733" name="Oval 58"/>
            <p:cNvSpPr/>
            <p:nvPr/>
          </p:nvSpPr>
          <p:spPr>
            <a:xfrm>
              <a:off x="243828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Oval 58"/>
            <p:cNvSpPr/>
            <p:nvPr/>
          </p:nvSpPr>
          <p:spPr>
            <a:xfrm>
              <a:off x="259056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274320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6" name="Oval 58"/>
          <p:cNvSpPr/>
          <p:nvPr/>
        </p:nvSpPr>
        <p:spPr>
          <a:xfrm>
            <a:off x="29718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4114800" y="412416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N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58"/>
          <p:cNvSpPr/>
          <p:nvPr/>
        </p:nvSpPr>
        <p:spPr>
          <a:xfrm>
            <a:off x="13716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58"/>
          <p:cNvSpPr/>
          <p:nvPr/>
        </p:nvSpPr>
        <p:spPr>
          <a:xfrm>
            <a:off x="1600200" y="30481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8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2" name="Group 70"/>
          <p:cNvGrpSpPr/>
          <p:nvPr/>
        </p:nvGrpSpPr>
        <p:grpSpPr>
          <a:xfrm>
            <a:off x="2438280" y="3200400"/>
            <a:ext cx="380880" cy="76320"/>
            <a:chOff x="2438280" y="3200400"/>
            <a:chExt cx="380880" cy="76320"/>
          </a:xfrm>
        </p:grpSpPr>
        <p:sp>
          <p:nvSpPr>
            <p:cNvPr id="743" name="Oval 58"/>
            <p:cNvSpPr/>
            <p:nvPr/>
          </p:nvSpPr>
          <p:spPr>
            <a:xfrm>
              <a:off x="243828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Oval 58"/>
            <p:cNvSpPr/>
            <p:nvPr/>
          </p:nvSpPr>
          <p:spPr>
            <a:xfrm>
              <a:off x="259056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>
              <a:off x="274320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6" name="Oval 58"/>
          <p:cNvSpPr/>
          <p:nvPr/>
        </p:nvSpPr>
        <p:spPr>
          <a:xfrm>
            <a:off x="29718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60"/>
          <p:cNvSpPr/>
          <p:nvPr/>
        </p:nvSpPr>
        <p:spPr>
          <a:xfrm>
            <a:off x="1371600" y="44197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DD48-828E-4C89-B68C-0E1C308E5B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457200" y="1066680"/>
            <a:ext cx="8001000" cy="98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sses in Φ  = 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+   Gains in Φ      -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≤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+  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3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   0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=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457200" y="2362320"/>
            <a:ext cx="807732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y that a phase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has at least K nonsaturating pushes.  Otherwise, it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The number of nonsaturating pushes is NSAT-large + NSAT-sma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57200" y="3809880"/>
            <a:ext cx="8153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small  ≤ K × number of phases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× K  ≤ Losses    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        ≤ Losses/K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K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NSAT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1AAF-0E17-451C-B7CA-B5B5BA74CB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037E-7D3F-4605-BA1A-1BCDB7680E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ing technique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it is quicker to solve an optimization problem starting from the optimal solution of a closely relate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apacity sca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the total running time is less than the bounds obtained by adding up running times bounds for each step.  It permits a kind of global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ime to select active nodes in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umber of phas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AB31-4B84-48C1-A941-1517A5EB53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low x is call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there is no augmenting path in G(x) of capac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m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x = 0 is Δ-maximum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= 1 + max 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takes a flow tha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maximum and outputs a flow that is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refer to a path in G(x)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augment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it is an s-t path whose capacity is at least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a Δ/2-augmenting path in G(x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a Δ/2-augmenting path P in G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ugment flow along 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sidual capacities and data structur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01C8-4220-4BD6-BAA6-6BF1BF05ED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1327680" y="2424240"/>
            <a:ext cx="5572800" cy="2300040"/>
            <a:chOff x="1327680" y="2424240"/>
            <a:chExt cx="5572800" cy="2300040"/>
          </a:xfrm>
        </p:grpSpPr>
        <p:sp>
          <p:nvSpPr>
            <p:cNvPr id="107" name="Oval 5"/>
            <p:cNvSpPr/>
            <p:nvPr/>
          </p:nvSpPr>
          <p:spPr>
            <a:xfrm>
              <a:off x="1563840" y="3470400"/>
              <a:ext cx="341280" cy="342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686240" y="3544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2943360" y="345456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08160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2943360" y="434988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3065760" y="447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2927520" y="2496960"/>
              <a:ext cx="341280" cy="3571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3408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5135760" y="2496960"/>
              <a:ext cx="341280" cy="35712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5816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5184720" y="436572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5307480" y="445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6370920" y="342108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491880" y="349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3308400" y="2684520"/>
              <a:ext cx="1657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5410440" y="2754360"/>
              <a:ext cx="99036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5486400" y="3745080"/>
              <a:ext cx="91440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1913040" y="3592440"/>
              <a:ext cx="87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1798560" y="2829960"/>
              <a:ext cx="1020600" cy="63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814400" y="3805200"/>
              <a:ext cx="1157040" cy="70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3326040" y="4537080"/>
              <a:ext cx="1704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 flipV="1">
              <a:off x="3227400" y="2829960"/>
              <a:ext cx="187776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3276720" y="3755880"/>
              <a:ext cx="1981080" cy="67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V="1">
              <a:off x="3124080" y="2829960"/>
              <a:ext cx="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3124080" y="389736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V="1">
              <a:off x="5410440" y="290628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5257800" y="283032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3959640" y="242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5941800" y="283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Rectangle 47"/>
            <p:cNvSpPr/>
            <p:nvPr/>
          </p:nvSpPr>
          <p:spPr>
            <a:xfrm>
              <a:off x="600660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550116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Rectangle 49"/>
            <p:cNvSpPr/>
            <p:nvPr/>
          </p:nvSpPr>
          <p:spPr>
            <a:xfrm>
              <a:off x="4933440" y="354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386136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319608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2206080" y="286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83920" y="334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207612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319608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56"/>
            <p:cNvSpPr/>
            <p:nvPr/>
          </p:nvSpPr>
          <p:spPr>
            <a:xfrm>
              <a:off x="3991320" y="427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153320" y="37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132768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Rectangle 59"/>
            <p:cNvSpPr/>
            <p:nvPr/>
          </p:nvSpPr>
          <p:spPr>
            <a:xfrm>
              <a:off x="6832800" y="3495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Text Box 4"/>
          <p:cNvSpPr/>
          <p:nvPr/>
        </p:nvSpPr>
        <p:spPr>
          <a:xfrm>
            <a:off x="380880" y="9907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t the beginning of the Δ-scaling phase, there is a an s-t cut (S, T) such that the capacity of each arc (i, j) from S to T is less tha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.   S = { j : there is a path P of capacity ≥ Δ from s to j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60"/>
          <p:cNvSpPr/>
          <p:nvPr/>
        </p:nvSpPr>
        <p:spPr>
          <a:xfrm>
            <a:off x="1219320" y="5257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sidual capacity of (S, T) is less than mΔ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391520" y="3276720"/>
            <a:ext cx="99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 = 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3059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52B5-E946-47A6-9D66-D79BCBB5A1C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728120" cy="40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ollary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augmentations per scaling phase is at most 2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Each augmentation reduces the residual capacity of the cut by at least Δ/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times that ImproveApprox is called is at most 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Initially Δ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where K =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each subsequent iteration Δ is hal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stops when Δ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38080" y="5334120"/>
            <a:ext cx="6782040" cy="13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per scaling phas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otal running tim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can be improved to O(nm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n algorithm that is based on scaling excesses rather than capac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reflow-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Δ-scaling phases, all excesses are less than 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A54F-CC5B-4148-8538-0A2EE5FFCE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9591-8412-4D82-8B7B-E290EED161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Review of Pre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i)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C167-1B51-4B78-8E08-D4A0CBBF24C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66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6:55Z</dcterms:created>
  <dc:creator>Jim Orlin</dc:creator>
  <dc:description/>
  <dc:language>en-US</dc:language>
  <cp:lastModifiedBy>Sapient</cp:lastModifiedBy>
  <cp:lastPrinted>2010-10-20T14:58:17Z</cp:lastPrinted>
  <dcterms:modified xsi:type="dcterms:W3CDTF">2011-02-28T06:13:43Z</dcterms:modified>
  <cp:revision>55</cp:revision>
  <dc:subject/>
  <dc:title>15.082        Spring 1998</dc:title>
</cp:coreProperties>
</file>