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30A0580-57E7-4D58-B80E-01F68B9A2EC6}"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1C778A06-DE10-4610-A7BA-A17A7132DBFB}"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A9ECBF-313A-48CA-AC45-BFB0F70CF1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14261-5D23-43D4-8FD3-0E029B221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C3521E-F590-48E5-891E-6F97B19D6D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A8E55E-1BEC-4C9E-9E58-7621A91EE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4F6B9B-01AA-4E0A-91B6-6316794EDE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43AEE-DE5C-4705-B3A5-0B0E7C578E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22565B-0883-4184-99FE-35DE2524A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0CA53-00BC-4299-B070-B753DAF8A5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76056A-F7C1-41BF-92BC-63A7969E2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C9C4D-2A6A-4DB0-8540-EB324ED1C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4B109-C6A0-45E7-B6AD-79EF07366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88E7D1-917C-44BE-A6BF-C6125101A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FD02-CF92-4B86-AB72-56DE80C073D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5C4C-2931-49AD-A5BE-CCE02F97A6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A46F-E111-4677-9890-425FFC6E85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E96E-9C02-4575-940F-E32970A7EF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6D30-936D-46F1-B00E-852425660E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D693-0A09-4A50-8EEA-A8DC47FF79D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D732-33AE-4D4F-B8B5-C9885BFE3E5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84F0-D2C0-441E-B89D-510EE214322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C33A-B684-4A83-9D1A-6964B287BB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8009-61FC-4CC3-B21E-E06478FEF9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6966-36F2-4B75-AB9E-CD911F15B67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5A64-655E-403B-A63B-026541495F1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CB1E-76DD-4AFB-A1F2-2E1A380135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3655-3CD6-4DAB-A472-698A6E6E5B8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90A9-D711-4F5E-84A8-6A6579B85A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D0B2-CB10-45FC-A2A2-D80F2FEF4F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7CC6-19BD-42C9-B328-4D6FFFADC0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90A5-C376-45AD-B35D-6FCF5ADC684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20B3-A249-411C-9003-7B065979B9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5AAE-C0A8-4F70-B735-E842B3136A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87EF-AECF-4929-AD19-B673ABF3EE1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01B9-A8EF-4F0F-A7EF-E78CA9323E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5B48-5598-48BC-8D8C-7FF0AD9EFC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D357-0618-4B4C-A58A-D01505A47D7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3C12-BB77-4EA6-9A75-5F4F3AF5D27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9AA8-AAFB-4E5F-98B6-5D56189E45C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4A59-3F78-461D-BBB3-43D48F30E36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BD47-7AB7-4DBA-A4C4-DC819ED5247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2E4A-A142-43F8-9E51-F0B6DE3061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8FA7-A2F5-4954-9688-AFDEB6C87C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0AC6-26DB-4364-B596-AB2CF64A6C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DCA5-0245-42A2-A013-E90F2FF270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EE4A-7932-4F13-BFD2-4CDD68EA50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0AE6-8226-49A3-AC84-FC5A84EAC9E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8074-9B37-4C28-924D-A0BB21DC7D2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triangle"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triangle"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triangle"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triangle"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arrow"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arrow"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arrow"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arrow"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triangle"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triangle"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triangle"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triangle"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28F3-AA55-4F39-B294-2CE0AE7CE20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6A2D-D0E9-4CF7-8AF6-6CD56DD24E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9D797-F17B-4689-91F5-D0C09F489B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